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EB3-28ED-4EA9-AD57-72DE116241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16E-3170-47C6-B689-DA59A2A9348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C9F8-3D79-4CE6-BFA6-8792FD0A1D1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F5F-ED86-4A7F-9A34-63A293B2027A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DF72-9C8B-4EF4-9B7D-A7BED78FB03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3EB-8217-439E-A996-D8A517EAA2A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5379-E0D6-4DD9-A228-406B1B24C9D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B80-FE39-4399-ACC5-2A6C11980B4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453-529B-412B-8F4D-90F0996F534A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FDD8-78B4-46CB-B9F2-10582DF9453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97C8-378E-4A3D-9D19-AD6CFF0A6A1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152-4FC5-4298-A151-5894D9D7976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B4C6-DC1A-4492-A4CE-9E1E18448EB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7E47-2F02-449C-86B5-AE21661433A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13DE-8765-46D9-B0BB-3ECD0B9FE6B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оперативного управления деятельностью компа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бизнеса для менеджеров и собств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мотивации сотрудников в получении требуем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C89-7A9A-46D9-878F-0215B9D1907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3A7-1D74-4BF9-8522-736F4649FB7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3CC4-036D-40D6-B0F1-311D9E56E32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BFDF-1DCD-4678-9224-F3877AED02C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9C77-E381-4159-BCDB-B78685D8540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9961-1F53-4BCF-A7C4-3655D3E336F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0BF0-122E-4FDB-87BD-20CC424CB79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78E-DCF4-4A0B-9B0B-B0FC7ECD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1CA-3D29-4EF9-A31F-A410AE56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D1A-4A3B-41A9-B5F4-4D82F38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D65-09BF-45EB-9486-14A135C2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54B-753B-4751-BE92-4B3AD67E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80AF-CC2C-4CBD-8C09-7D8E062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DB51-2E06-458F-9A75-75D4F9E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C7CB-549B-420B-A193-C3BF5A2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53D2-3209-48C6-B9D5-2C7F1BC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8BE-8599-4622-A663-0320DF22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11D5-FA18-42F5-9FE7-C251255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847-96C9-4578-AC23-6701303C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CD18-6CC2-4CC6-95C2-42F97B0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8443-8AC6-49C4-9915-C59EA19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B62-AE9E-48EC-BDA2-1D75AAE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262-6A2B-4FFD-9065-0A9A8D51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2B9-9EED-4601-B428-67627372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C11-FA67-4C07-881D-58F7BE6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C46-D4EF-44CB-B9B4-45E754F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E6B-52C1-4A09-B55F-42CABD9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02D-B820-4BBA-8087-34E20652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BCF-7C2E-4F1C-AFD8-138A8B8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C14-9717-41BF-B1A0-16284845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766-EAC9-4499-9E1F-3C111B9F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F0A-503B-4751-A89F-03AB039E55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946C-81AF-423F-B024-ABD18E9426D8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mailto:mail@econburo.ru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econburo.ru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9800" y="2060640"/>
            <a:ext cx="8134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Автоматизация управления компанией оптово-розничной торговли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Аудиторская фирм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«Экономикс бюро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Консолидация данных, ведение управленческого учет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использование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внутрифирменных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принципов учета, </a:t>
            </a: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тход от привязки к бухгалтерскому и налоговому учету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еобразование внутренних взаиморасчетов для реальной оценки бизнес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использование дополнительных управленческих (отличных от бухгалтерских) данных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Оперативность получения данных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 движению товар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 остаткам товара на оптовых складах и в магазинах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 остаткам денежных средств на расчетных счетах компа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о взаиморасчетам с покупателями и поставщиками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статки и движение товар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2" name="Picture 7" descr="Остатки Товаров"/>
          <p:cNvPicPr/>
          <p:nvPr/>
        </p:nvPicPr>
        <p:blipFill>
          <a:blip r:embed="rId1"/>
          <a:stretch/>
        </p:blipFill>
        <p:spPr>
          <a:xfrm>
            <a:off x="1476360" y="2852640"/>
            <a:ext cx="6551640" cy="3430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8"/>
          <p:cNvSpPr/>
          <p:nvPr/>
        </p:nvSpPr>
        <p:spPr>
          <a:xfrm>
            <a:off x="324000" y="1773360"/>
            <a:ext cx="828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бновление данных по движению товара производится ежедневно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озможность эффективного управления компанией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ланирование деятельност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правление финансовыми потокам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правление процессом торговл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Анализ получаемых результат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онтроль исполнения план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17"/>
          <p:cNvSpPr/>
          <p:nvPr/>
        </p:nvSpPr>
        <p:spPr>
          <a:xfrm>
            <a:off x="468360" y="1484280"/>
            <a:ext cx="2663640" cy="410544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4105440"/>
              <a:gd name="textAreaBottom" fmla="*/ 3975480 h 4105440"/>
            </a:gdLst>
            <a:ahLst/>
            <a:rect l="textAreaLeft" t="textAreaTop" r="textAreaRight" b="textAreaBottom"/>
            <a:pathLst>
              <a:path w="21600" h="33290">
                <a:moveTo>
                  <a:pt x="3600" y="0"/>
                </a:moveTo>
                <a:arcTo wR="3600" hR="3600" stAng="16200000" swAng="-5400000"/>
                <a:lnTo>
                  <a:pt x="0" y="29690"/>
                </a:lnTo>
                <a:arcTo wR="3600" hR="3600" stAng="10800000" swAng="-5400000"/>
                <a:lnTo>
                  <a:pt x="18000" y="33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анирование деятельност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757080" y="191628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продаж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757080" y="263700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закупки товаров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757080" y="335772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прямых расходов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757080" y="407664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управленческих расходов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>
            <a:off x="757080" y="479736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по налогам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539640" y="155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БДР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Rectangle 19"/>
          <p:cNvSpPr/>
          <p:nvPr/>
        </p:nvSpPr>
        <p:spPr>
          <a:xfrm>
            <a:off x="539640" y="6165720"/>
            <a:ext cx="8136000" cy="432000"/>
          </a:xfrm>
          <a:prstGeom prst="rect">
            <a:avLst/>
          </a:pr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Управленческий баланс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AutoShape 22"/>
          <p:cNvSpPr/>
          <p:nvPr/>
        </p:nvSpPr>
        <p:spPr>
          <a:xfrm>
            <a:off x="1476360" y="566100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AutoShape 23"/>
          <p:cNvSpPr/>
          <p:nvPr/>
        </p:nvSpPr>
        <p:spPr>
          <a:xfrm>
            <a:off x="3276720" y="1484280"/>
            <a:ext cx="2663640" cy="410544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4105440"/>
              <a:gd name="textAreaBottom" fmla="*/ 3975480 h 4105440"/>
            </a:gdLst>
            <a:ahLst/>
            <a:rect l="textAreaLeft" t="textAreaTop" r="textAreaRight" b="textAreaBottom"/>
            <a:pathLst>
              <a:path w="21600" h="33290">
                <a:moveTo>
                  <a:pt x="3600" y="0"/>
                </a:moveTo>
                <a:arcTo wR="3600" hR="3600" stAng="16200000" swAng="-5400000"/>
                <a:lnTo>
                  <a:pt x="0" y="29690"/>
                </a:lnTo>
                <a:arcTo wR="3600" hR="3600" stAng="10800000" swAng="-5400000"/>
                <a:lnTo>
                  <a:pt x="18000" y="33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AutoShape 24"/>
          <p:cNvSpPr/>
          <p:nvPr/>
        </p:nvSpPr>
        <p:spPr>
          <a:xfrm>
            <a:off x="6084720" y="1484280"/>
            <a:ext cx="2664000" cy="4105440"/>
          </a:xfrm>
          <a:custGeom>
            <a:avLst/>
            <a:gdLst>
              <a:gd name="textAreaLeft" fmla="*/ 129960 w 2664000"/>
              <a:gd name="textAreaRight" fmla="*/ 2534040 w 2664000"/>
              <a:gd name="textAreaTop" fmla="*/ 129960 h 4105440"/>
              <a:gd name="textAreaBottom" fmla="*/ 3975480 h 4105440"/>
            </a:gdLst>
            <a:ahLst/>
            <a:rect l="textAreaLeft" t="textAreaTop" r="textAreaRight" b="textAreaBottom"/>
            <a:pathLst>
              <a:path w="21600" h="33286">
                <a:moveTo>
                  <a:pt x="3600" y="0"/>
                </a:moveTo>
                <a:arcTo wR="3600" hR="3600" stAng="16200000" swAng="-5400000"/>
                <a:lnTo>
                  <a:pt x="0" y="29686"/>
                </a:lnTo>
                <a:arcTo wR="3600" hR="3600" stAng="10800000" swAng="-5400000"/>
                <a:lnTo>
                  <a:pt x="18000" y="33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AutoShape 25"/>
          <p:cNvSpPr/>
          <p:nvPr/>
        </p:nvSpPr>
        <p:spPr>
          <a:xfrm>
            <a:off x="4373640" y="566100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AutoShape 26"/>
          <p:cNvSpPr/>
          <p:nvPr/>
        </p:nvSpPr>
        <p:spPr>
          <a:xfrm>
            <a:off x="7164360" y="566100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>
              <a:alpha val="5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3348000" y="155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БДДС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56360" y="155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Инвестици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372360" y="1989000"/>
            <a:ext cx="2087280" cy="73368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капитального строительства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AutoShape 30"/>
          <p:cNvSpPr/>
          <p:nvPr/>
        </p:nvSpPr>
        <p:spPr>
          <a:xfrm>
            <a:off x="6372360" y="4495680"/>
            <a:ext cx="2087280" cy="73368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финансовых вложений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AutoShape 31"/>
          <p:cNvSpPr/>
          <p:nvPr/>
        </p:nvSpPr>
        <p:spPr>
          <a:xfrm>
            <a:off x="6372360" y="3068640"/>
            <a:ext cx="2016000" cy="108108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приобретения внеоборотных активов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AutoShape 32"/>
          <p:cNvSpPr/>
          <p:nvPr/>
        </p:nvSpPr>
        <p:spPr>
          <a:xfrm>
            <a:off x="3564000" y="2190600"/>
            <a:ext cx="2087640" cy="73368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поступлений от покупателей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33"/>
          <p:cNvSpPr/>
          <p:nvPr/>
        </p:nvSpPr>
        <p:spPr>
          <a:xfrm>
            <a:off x="3564000" y="450864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прочих поступлений и выплат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3564000" y="3357720"/>
            <a:ext cx="2087640" cy="733320"/>
          </a:xfrm>
          <a:prstGeom prst="flowChartTerminator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Arial"/>
              </a:rPr>
              <a:t>Бюджет кредиторской задолженност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лановый бюджет доходов и расход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29" name="Picture 6" descr="План БДР"/>
          <p:cNvPicPr/>
          <p:nvPr/>
        </p:nvPicPr>
        <p:blipFill>
          <a:blip r:embed="rId1"/>
          <a:stretch/>
        </p:blipFill>
        <p:spPr>
          <a:xfrm>
            <a:off x="755640" y="1963800"/>
            <a:ext cx="7632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Бюджет управленческих расход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31" name="Picture 6" descr="Управленческие расходы"/>
          <p:cNvPicPr/>
          <p:nvPr/>
        </p:nvPicPr>
        <p:blipFill>
          <a:blip r:embed="rId1"/>
          <a:stretch/>
        </p:blipFill>
        <p:spPr>
          <a:xfrm>
            <a:off x="539640" y="2076480"/>
            <a:ext cx="77774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Бюджет по налогам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33" name="Picture 4" descr="Налоги начисленные"/>
          <p:cNvPicPr/>
          <p:nvPr/>
        </p:nvPicPr>
        <p:blipFill>
          <a:blip r:embed="rId1"/>
          <a:stretch/>
        </p:blipFill>
        <p:spPr>
          <a:xfrm>
            <a:off x="755640" y="2276640"/>
            <a:ext cx="79930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Управление финансовыми потокам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755640" y="2419200"/>
            <a:ext cx="1655280" cy="1655640"/>
            <a:chOff x="755640" y="2419200"/>
            <a:chExt cx="1655280" cy="1655640"/>
          </a:xfrm>
        </p:grpSpPr>
        <p:sp>
          <p:nvSpPr>
            <p:cNvPr id="436" name="AutoShape 10"/>
            <p:cNvSpPr/>
            <p:nvPr/>
          </p:nvSpPr>
          <p:spPr>
            <a:xfrm>
              <a:off x="755640" y="2419200"/>
              <a:ext cx="1655280" cy="1655640"/>
            </a:xfrm>
            <a:prstGeom prst="flowChartMagneticDisk">
              <a:avLst/>
            </a:prstGeom>
            <a:solidFill>
              <a:srgbClr val="ffcc99">
                <a:alpha val="63000"/>
              </a:srgbClr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Text Box 11"/>
            <p:cNvSpPr/>
            <p:nvPr/>
          </p:nvSpPr>
          <p:spPr>
            <a:xfrm>
              <a:off x="837360" y="3134160"/>
              <a:ext cx="1491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Учет договоров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38" name="AutoShape 13"/>
          <p:cNvSpPr/>
          <p:nvPr/>
        </p:nvSpPr>
        <p:spPr>
          <a:xfrm>
            <a:off x="755640" y="4651200"/>
            <a:ext cx="1655640" cy="1657440"/>
          </a:xfrm>
          <a:prstGeom prst="foldedCorner">
            <a:avLst>
              <a:gd name="adj" fmla="val 12500"/>
            </a:avLst>
          </a:prstGeom>
          <a:solidFill>
            <a:srgbClr val="ffcc99">
              <a:alpha val="7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Заявки подразделений на расход денежных средст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utoShape 15"/>
          <p:cNvSpPr/>
          <p:nvPr/>
        </p:nvSpPr>
        <p:spPr>
          <a:xfrm>
            <a:off x="3780000" y="2346480"/>
            <a:ext cx="1296720" cy="3958920"/>
          </a:xfrm>
          <a:prstGeom prst="rightArrowCallout">
            <a:avLst>
              <a:gd name="adj1" fmla="val 76333"/>
              <a:gd name="adj2" fmla="val 76326"/>
              <a:gd name="adj3" fmla="val 16667"/>
              <a:gd name="adj4" fmla="val 66667"/>
            </a:avLst>
          </a:prstGeom>
          <a:solidFill>
            <a:srgbClr val="ffcc99">
              <a:alpha val="8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3995640" y="2778120"/>
            <a:ext cx="50508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>
            <a:off x="2484360" y="3282840"/>
            <a:ext cx="1224000" cy="0"/>
          </a:xfrm>
          <a:prstGeom prst="line">
            <a:avLst/>
          </a:prstGeom>
          <a:ln w="1015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2484360" y="5299200"/>
            <a:ext cx="1224000" cy="0"/>
          </a:xfrm>
          <a:prstGeom prst="line">
            <a:avLst/>
          </a:prstGeom>
          <a:ln w="1015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5435640" y="1978200"/>
            <a:ext cx="3525840" cy="658800"/>
          </a:xfrm>
          <a:prstGeom prst="downArrowCallout">
            <a:avLst>
              <a:gd name="adj1" fmla="val 133810"/>
              <a:gd name="adj2" fmla="val 133798"/>
              <a:gd name="adj3" fmla="val 16667"/>
              <a:gd name="adj4" fmla="val 66667"/>
            </a:avLst>
          </a:prstGeom>
          <a:solidFill>
            <a:srgbClr val="ffcc99">
              <a:alpha val="80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Планируемые поступлени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AutoShape 26"/>
          <p:cNvSpPr/>
          <p:nvPr/>
        </p:nvSpPr>
        <p:spPr>
          <a:xfrm>
            <a:off x="5867280" y="3068640"/>
            <a:ext cx="2592360" cy="3166920"/>
          </a:xfrm>
          <a:prstGeom prst="foldedCorner">
            <a:avLst>
              <a:gd name="adj" fmla="val 12500"/>
            </a:avLst>
          </a:prstGeom>
          <a:solidFill>
            <a:srgbClr val="babe90">
              <a:alpha val="32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Платежный календарь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анируемые поступления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46" name="Picture 8" descr="Статистика за 3 года"/>
          <p:cNvPicPr/>
          <p:nvPr/>
        </p:nvPicPr>
        <p:blipFill>
          <a:blip r:embed="rId1"/>
          <a:stretch/>
        </p:blipFill>
        <p:spPr>
          <a:xfrm>
            <a:off x="4788000" y="1844640"/>
            <a:ext cx="3673440" cy="4321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Коэффициенты сезонности"/>
          <p:cNvPicPr/>
          <p:nvPr/>
        </p:nvPicPr>
        <p:blipFill>
          <a:blip r:embed="rId2"/>
          <a:stretch/>
        </p:blipFill>
        <p:spPr>
          <a:xfrm>
            <a:off x="755640" y="4149720"/>
            <a:ext cx="3887640" cy="2016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1"/>
          <p:cNvSpPr/>
          <p:nvPr/>
        </p:nvSpPr>
        <p:spPr>
          <a:xfrm>
            <a:off x="468360" y="213372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Планируемые поступления определяются на основе анализа данных за предыдущие периоды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бщие свед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Бизнесы организац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птовая торговл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озничная торговля (сеть магазинов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дача в аренду помещен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остав холдинг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Юридические лиц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ндивидуальные предпринимате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пецифика бизнес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Большое влияние сезонности, моды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ильная конкуренция в отрасл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атежный календарь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450" name="Object 11"/>
          <p:cNvGraphicFramePr/>
          <p:nvPr/>
        </p:nvGraphicFramePr>
        <p:xfrm>
          <a:off x="2490840" y="1628640"/>
          <a:ext cx="40258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628640"/>
                    <a:ext cx="40258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Управление процессом торговл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Номенклатурное планирование движения товаров по центрам торговл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Контроль остатков товара, определение оптимального резер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Контроль оборачиваемости товара по каждой номенклатур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правление дебиторской задолженностью (система скидок и отсрочек платежа, контроль за исполнением сроков оплат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Использование системы штрих-кодирован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Контроль оборачиваемости товар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55" name="Picture 6" descr="Оборачиваемость"/>
          <p:cNvPicPr/>
          <p:nvPr/>
        </p:nvPicPr>
        <p:blipFill>
          <a:blip r:embed="rId1"/>
          <a:stretch/>
        </p:blipFill>
        <p:spPr>
          <a:xfrm>
            <a:off x="971640" y="1886040"/>
            <a:ext cx="705636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Анализ деятельности компани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роводится 2 вида анализа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Оперативный (в течение месяц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Анализ продаж по группам товара, отдельным позиция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пределение рентабельности продаж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Комплексный (по итогам месяца, квартала, год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лан-фактный анализ деятель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счет финансовых показателе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Оценка результатов деятельности компании и отдельных бизнес-направлен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перативный анализ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59" name="Picture 6" descr="Анализ продаж"/>
          <p:cNvPicPr/>
          <p:nvPr/>
        </p:nvPicPr>
        <p:blipFill>
          <a:blip r:embed="rId1"/>
          <a:stretch/>
        </p:blipFill>
        <p:spPr>
          <a:xfrm>
            <a:off x="1042920" y="1844640"/>
            <a:ext cx="712944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лан-фактный анализ деятельност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61" name="Picture 6" descr="План-факт БДР"/>
          <p:cNvPicPr/>
          <p:nvPr/>
        </p:nvPicPr>
        <p:blipFill>
          <a:blip r:embed="rId1"/>
          <a:stretch/>
        </p:blipFill>
        <p:spPr>
          <a:xfrm>
            <a:off x="1403280" y="1787400"/>
            <a:ext cx="6840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Расчет финансовых показателей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63" name="Picture 7" descr="Показатели рентабельности"/>
          <p:cNvPicPr/>
          <p:nvPr/>
        </p:nvPicPr>
        <p:blipFill>
          <a:blip r:embed="rId1"/>
          <a:stretch/>
        </p:blipFill>
        <p:spPr>
          <a:xfrm>
            <a:off x="1476360" y="1844640"/>
            <a:ext cx="61927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правление кадрам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ремиальное положение направлено на исполнение бюджет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Руководители структурных подразделений участвуют в процессе планирован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Автоматизация работы позволяет увеличить производительность труда сотрудник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Формализация бизнес-процесс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недрение программного комплекса обязательно требует описания бизнес-процессов компании. Это привело к реорганизации отдельных функций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Учет товара на склад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Сокращение трудоемкости работ по учету товар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Регламентирование взаимодействия различных служб компании (торговый отдел, склад, магазины, бухгалтерия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оставка това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Определение времени с момента поступления заявки из магазина до момента фактического поступления товара (от поставщика, с оптового склада)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Определение стоимости выполнения заказа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гламенты и полож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 процессе внедрения системы были разработаны и утверждены следующие документы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оложение о финансовой структур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оложение о бюджетной структур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Управленческая учетная полити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оложение о планировани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оложение о финансово-экономическом анализ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емиальное положени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егламенты бухгалтерского уче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нформационная политика компани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егламенты работы в программной комплекс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сновные цели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Повышение эффективности работы компании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Times New Roman"/>
              </a:rPr>
              <a:t>Прозрачность бизнеса для собственников и топ-менеджеров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ерспективы развития системы управле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недрение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RM-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истемы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Разработка системы сбалансированных показате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недрение процессного подхода к управлению компани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зультаты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величение управляемости компани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Четкая обоснованность принимаемых решени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величение рентабельности бизнес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величение оборачиваемости товар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Определение стратегических целей и путей их достижен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пасибо за внимание</a:t>
            </a: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Разработчик: ООО «Аудиторская фирма «Экономикс бюро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Адрес: ул. Луначарского, 31, 803а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Телефон: (343)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55-42-92, 355-14-37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E-mail: </a:t>
            </a:r>
            <a:r>
              <a:rPr b="0" lang="en-US" sz="3200" spc="-1" strike="noStrike" u="sng">
                <a:solidFill>
                  <a:srgbClr val="c09e4a"/>
                </a:solidFill>
                <a:uFillTx/>
                <a:latin typeface="Times New Roman"/>
                <a:hlinkClick r:id="rId5"/>
              </a:rPr>
              <a:t>mail@econburo.ru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http: </a:t>
            </a:r>
            <a:r>
              <a:rPr b="0" lang="en-US" sz="3200" spc="-1" strike="noStrike" u="sng">
                <a:solidFill>
                  <a:srgbClr val="c09e4a"/>
                </a:solidFill>
                <a:uFillTx/>
                <a:latin typeface="Times New Roman"/>
                <a:hlinkClick r:id="rId7"/>
              </a:rPr>
              <a:t>www.econburo.ru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Критерии эффективности работы компан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величение рентабельност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Повышение стоимости компани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Увеличение доли рынк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частники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труктурные подразделения компании: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Руководство компанией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Торговый отде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Магазины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Складское хозяйство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Финансово-экономическая служба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нешние консультанты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сновная задача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оздание программного комплекса для планирования, учета, контроля и анализа деятельности компании, на базе программ семейства 1С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сновная задача проек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оздание программного комплекса для планирования, учета, контроля и анализа деятельности компании, на базе программ семейства 1С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остав комплекса: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Сводная торговая программ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граммы по учету товара в магазинах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Бухгалтерские программы предприят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граммы по учету зарплаты и кадров предприят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Консолидированная управленческая программа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на базе Инталев: Корпоративные финансы 200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Программа по учету договоров и формированию платежного календар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9"/>
          <p:cNvGrpSpPr/>
          <p:nvPr/>
        </p:nvGrpSpPr>
        <p:grpSpPr>
          <a:xfrm>
            <a:off x="1042920" y="2347920"/>
            <a:ext cx="1440000" cy="1511280"/>
            <a:chOff x="1042920" y="2347920"/>
            <a:chExt cx="1440000" cy="1511280"/>
          </a:xfrm>
        </p:grpSpPr>
        <p:sp>
          <p:nvSpPr>
            <p:cNvPr id="365" name="AutoShape 30"/>
            <p:cNvSpPr/>
            <p:nvPr/>
          </p:nvSpPr>
          <p:spPr>
            <a:xfrm>
              <a:off x="1042920" y="234792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1114200" y="3112920"/>
              <a:ext cx="12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Магазины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971640" y="2205000"/>
            <a:ext cx="1439640" cy="1511280"/>
            <a:chOff x="971640" y="2205000"/>
            <a:chExt cx="1439640" cy="1511280"/>
          </a:xfrm>
        </p:grpSpPr>
        <p:sp>
          <p:nvSpPr>
            <p:cNvPr id="368" name="AutoShape 33"/>
            <p:cNvSpPr/>
            <p:nvPr/>
          </p:nvSpPr>
          <p:spPr>
            <a:xfrm>
              <a:off x="971640" y="2205000"/>
              <a:ext cx="143964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1042560" y="2970000"/>
              <a:ext cx="129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хема взаимосвязи программ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71" name="Group 13"/>
          <p:cNvGrpSpPr/>
          <p:nvPr/>
        </p:nvGrpSpPr>
        <p:grpSpPr>
          <a:xfrm>
            <a:off x="898560" y="4581360"/>
            <a:ext cx="1440000" cy="1511280"/>
            <a:chOff x="898560" y="4581360"/>
            <a:chExt cx="1440000" cy="1511280"/>
          </a:xfrm>
        </p:grpSpPr>
        <p:sp>
          <p:nvSpPr>
            <p:cNvPr id="372" name="AutoShape 11"/>
            <p:cNvSpPr/>
            <p:nvPr/>
          </p:nvSpPr>
          <p:spPr>
            <a:xfrm>
              <a:off x="898560" y="458136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3" name="Text Box 12"/>
            <p:cNvSpPr/>
            <p:nvPr/>
          </p:nvSpPr>
          <p:spPr>
            <a:xfrm>
              <a:off x="969840" y="5209920"/>
              <a:ext cx="129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Зарплата и кадры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74" name="Group 35"/>
          <p:cNvGrpSpPr/>
          <p:nvPr/>
        </p:nvGrpSpPr>
        <p:grpSpPr>
          <a:xfrm>
            <a:off x="3851280" y="4581360"/>
            <a:ext cx="1440000" cy="1511280"/>
            <a:chOff x="3851280" y="4581360"/>
            <a:chExt cx="1440000" cy="1511280"/>
          </a:xfrm>
        </p:grpSpPr>
        <p:sp>
          <p:nvSpPr>
            <p:cNvPr id="375" name="AutoShape 15"/>
            <p:cNvSpPr/>
            <p:nvPr/>
          </p:nvSpPr>
          <p:spPr>
            <a:xfrm>
              <a:off x="3851280" y="458136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86200" y="5346360"/>
              <a:ext cx="13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Бухгалтерия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77" name="Group 17"/>
          <p:cNvGrpSpPr/>
          <p:nvPr/>
        </p:nvGrpSpPr>
        <p:grpSpPr>
          <a:xfrm>
            <a:off x="6804000" y="4581360"/>
            <a:ext cx="1440000" cy="1511280"/>
            <a:chOff x="6804000" y="4581360"/>
            <a:chExt cx="1440000" cy="1511280"/>
          </a:xfrm>
        </p:grpSpPr>
        <p:sp>
          <p:nvSpPr>
            <p:cNvPr id="378" name="AutoShape 18"/>
            <p:cNvSpPr/>
            <p:nvPr/>
          </p:nvSpPr>
          <p:spPr>
            <a:xfrm>
              <a:off x="6804000" y="458136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6875280" y="5209920"/>
              <a:ext cx="129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Учет договоров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80" name="Group 20"/>
          <p:cNvGrpSpPr/>
          <p:nvPr/>
        </p:nvGrpSpPr>
        <p:grpSpPr>
          <a:xfrm>
            <a:off x="6804000" y="2062080"/>
            <a:ext cx="1440000" cy="1511280"/>
            <a:chOff x="6804000" y="2062080"/>
            <a:chExt cx="1440000" cy="1511280"/>
          </a:xfrm>
        </p:grpSpPr>
        <p:sp>
          <p:nvSpPr>
            <p:cNvPr id="381" name="AutoShape 21"/>
            <p:cNvSpPr/>
            <p:nvPr/>
          </p:nvSpPr>
          <p:spPr>
            <a:xfrm>
              <a:off x="6804000" y="206208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6875280" y="2554200"/>
              <a:ext cx="12970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Управленческий учет. Инталев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83" name="Group 23"/>
          <p:cNvGrpSpPr/>
          <p:nvPr/>
        </p:nvGrpSpPr>
        <p:grpSpPr>
          <a:xfrm>
            <a:off x="3851280" y="2062080"/>
            <a:ext cx="1440000" cy="1511280"/>
            <a:chOff x="3851280" y="2062080"/>
            <a:chExt cx="1440000" cy="1511280"/>
          </a:xfrm>
        </p:grpSpPr>
        <p:sp>
          <p:nvSpPr>
            <p:cNvPr id="384" name="AutoShape 24"/>
            <p:cNvSpPr/>
            <p:nvPr/>
          </p:nvSpPr>
          <p:spPr>
            <a:xfrm>
              <a:off x="3851280" y="206208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3922560" y="2690640"/>
              <a:ext cx="129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Сводная торговля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86" name="Group 26"/>
          <p:cNvGrpSpPr/>
          <p:nvPr/>
        </p:nvGrpSpPr>
        <p:grpSpPr>
          <a:xfrm>
            <a:off x="898560" y="2062080"/>
            <a:ext cx="1440000" cy="1511280"/>
            <a:chOff x="898560" y="2062080"/>
            <a:chExt cx="1440000" cy="1511280"/>
          </a:xfrm>
        </p:grpSpPr>
        <p:sp>
          <p:nvSpPr>
            <p:cNvPr id="387" name="AutoShape 27"/>
            <p:cNvSpPr/>
            <p:nvPr/>
          </p:nvSpPr>
          <p:spPr>
            <a:xfrm>
              <a:off x="898560" y="2062080"/>
              <a:ext cx="1440000" cy="1511280"/>
            </a:xfrm>
            <a:prstGeom prst="flowChartMagneticDisk">
              <a:avLst/>
            </a:prstGeom>
            <a:solidFill>
              <a:srgbClr val="ccff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Text Box 28"/>
            <p:cNvSpPr/>
            <p:nvPr/>
          </p:nvSpPr>
          <p:spPr>
            <a:xfrm>
              <a:off x="969840" y="2690640"/>
              <a:ext cx="129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383ad"/>
                  </a:solidFill>
                  <a:latin typeface="Arial"/>
                </a:rPr>
                <a:t>Учет в магазинах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89" name="Line 36"/>
          <p:cNvSpPr/>
          <p:nvPr/>
        </p:nvSpPr>
        <p:spPr>
          <a:xfrm>
            <a:off x="2629080" y="2852640"/>
            <a:ext cx="1079280" cy="0"/>
          </a:xfrm>
          <a:prstGeom prst="line">
            <a:avLst/>
          </a:prstGeom>
          <a:ln w="7632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37"/>
          <p:cNvSpPr/>
          <p:nvPr/>
        </p:nvSpPr>
        <p:spPr>
          <a:xfrm>
            <a:off x="2629080" y="5443560"/>
            <a:ext cx="107928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5508720" y="2852640"/>
            <a:ext cx="107928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39"/>
          <p:cNvSpPr/>
          <p:nvPr/>
        </p:nvSpPr>
        <p:spPr>
          <a:xfrm flipV="1">
            <a:off x="5508720" y="3789360"/>
            <a:ext cx="1079280" cy="122400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40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41"/>
          <p:cNvSpPr/>
          <p:nvPr/>
        </p:nvSpPr>
        <p:spPr>
          <a:xfrm flipV="1">
            <a:off x="4572000" y="3789000"/>
            <a:ext cx="0" cy="647640"/>
          </a:xfrm>
          <a:prstGeom prst="line">
            <a:avLst/>
          </a:prstGeom>
          <a:ln w="7632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еимущества комплекс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онсолидация данных, ведение управленческого учет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Оперативность получения данных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озможность эффективного управления компани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5:03:04Z</dcterms:created>
  <dc:creator>kazakov_aj</dc:creator>
  <dc:description/>
  <dc:language>en-US</dc:language>
  <cp:lastModifiedBy>kazantsev_ka</cp:lastModifiedBy>
  <dcterms:modified xsi:type="dcterms:W3CDTF">2008-08-11T07:25:26Z</dcterms:modified>
  <cp:revision>34</cp:revision>
  <dc:subject/>
  <dc:title>Автоматизация предприятий оптово-розничной торгов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