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2.gif" ContentType="image/gif"/>
  <Override PartName="/ppt/media/image9.jpeg" ContentType="image/jpeg"/>
  <Override PartName="/ppt/media/image11.jpeg" ContentType="image/jpeg"/>
  <Override PartName="/ppt/media/image19.wmf" ContentType="image/x-wmf"/>
  <Override PartName="/ppt/media/image18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1.png" ContentType="image/png"/>
  <Override PartName="/ppt/media/image5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12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4E3B-4ADA-4816-8CDE-E9D87E9ADC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B8F8-28F9-462B-87C4-6387A14EE7D2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03AC-85A4-47A3-8545-2087B3D7FF17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DF7B-889C-482B-9083-A04E403D1C8D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D08B-5A35-4D94-B07B-3EE574C09804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A341-EFA6-49BF-A89F-59F2433A7B6A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2389-0B29-4DF2-A699-DE82B6162F05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D9AC-A914-42BC-9628-206052F40048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9C76-FBE9-4042-A75F-612E0F0699E8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3131-E282-43E7-836D-BEF1528CACA6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35BE-9813-4E73-B3C5-C0ECDE2AAF4E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3BC8-9E85-4A3B-804F-679C8E0E1157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1404-CD6E-43FD-82F4-CBC04049C40F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5298-DE8D-48C3-9D32-A5C89CB78520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3BFA-8207-4DE3-AC77-0872CEF52FBD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C6B8-5296-47A5-B915-9B0C3A806EC6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B7B0-916B-42C1-834F-E73A72FB8F05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9A93-43C8-43DC-8BC6-02B68F1F6624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0705-B6E5-4FD4-8246-071DEFBC3E3C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0020-CEDB-47D3-B972-9C5B43FE6978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FD06-9F95-4608-8C60-FBDFDF0F2017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89BA-0A66-4E79-B074-1ABAC90929B5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FCE7-6AD8-4867-BE31-0F4F0071DB8E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оперативного управления деятельностью компан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зрачность бизнеса для менеджеров и собствен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ение мотивации сотрудников в получении требуемых результа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D124-F4A0-471E-9D6D-9EA297885CB8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E7BD-EE6C-4429-B8F6-CB5B13DD1978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5798-9CB4-4506-A452-57F1B4A62B1D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49AA-5FEC-4355-997C-069BF92F405F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A470-4B34-4315-8C60-70E1DEC74435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B45D-8F9E-40AF-8BB2-51F7FA13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1E2C-D618-460B-B029-8A6F50B1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4C4A-49C8-4BA4-98FE-BFA8C55A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5B0-66C8-4352-B095-4A46CFFD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5DA2-6A38-4C24-A9F0-3155D8F4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3FAE-4F15-4DB9-B73F-995AAF19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2E1A-329E-4B19-842C-40452E50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9017-0494-40BC-B6D9-FD0B34C8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FB9F-9E3F-45F9-B88E-87B2BE8E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7B8C-3733-4470-9569-14986B1F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0F38-A75C-4EF4-8059-F336EE11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B281-9BD3-4DFA-89F4-AD7FB010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F597-8946-47DC-8D57-C6B24673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990B-79AE-4854-952D-5845A31B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313C-A934-46E2-B44D-67D7DB94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3941-B5CD-4FBF-B8FE-9838F06A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503F-7BDD-40D5-BB40-6AD81955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DF9E-35A1-46CB-A8C5-7E9E2720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60F0-50FC-45BF-BBB4-C2C14BF0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1912-9BA7-4665-B4F5-9655B234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3CD5-CEBC-4EDC-964B-A6625F1A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297F-E412-4EC4-A2CD-0812784D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15EC-D30E-468B-B48A-F5CCE5E0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1067-EA3B-45A4-8A29-CE581E73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9847-395C-48D9-AEA0-CF8BB2AFB6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5B59-1523-4493-81CB-B8074E856ACF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mailto:econburo@r66.ru" TargetMode="External"/><Relationship Id="rId6" Type="http://schemas.openxmlformats.org/officeDocument/2006/relationships/hyperlink" Target="mailto:conburo@r66.ru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9800" y="2060640"/>
            <a:ext cx="81345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Постановка бюджетного управления в газораспределительной компании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Аудиторская фирма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«Экономикс бюро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Настройка процесса планирования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Приоритетными вопросами при планировании являлись: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Получение финансового результата по каждому виду деятельност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Подготовка расчетов для защиты тарифов на основании результатов планирования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Настройка многосценарного планирования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Управление платежеспособностью предприятия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Получение финансового результата по видам деятельности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0" y="11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7" name="Picture 11" descr="валовая прибыль"/>
          <p:cNvPicPr/>
          <p:nvPr/>
        </p:nvPicPr>
        <p:blipFill>
          <a:blip r:embed="rId1"/>
          <a:stretch/>
        </p:blipFill>
        <p:spPr>
          <a:xfrm>
            <a:off x="755640" y="2028960"/>
            <a:ext cx="7704000" cy="421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Защита тарифов по плановым данным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0" y="11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3" name="Picture 7" descr="22жкх"/>
          <p:cNvPicPr/>
          <p:nvPr/>
        </p:nvPicPr>
        <p:blipFill>
          <a:blip r:embed="rId1"/>
          <a:stretch/>
        </p:blipFill>
        <p:spPr>
          <a:xfrm>
            <a:off x="3635280" y="2133720"/>
            <a:ext cx="5040360" cy="395928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8"/>
          <p:cNvSpPr/>
          <p:nvPr/>
        </p:nvSpPr>
        <p:spPr>
          <a:xfrm>
            <a:off x="250920" y="1916280"/>
            <a:ext cx="3384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Защита тарифов производится по унифицированным формам отчетности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Разработана возможность автоматического получения этих форм на основе составленных планов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Защита тарифов по плановым данным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96" name="Picture 9" descr="6гс"/>
          <p:cNvPicPr/>
          <p:nvPr/>
        </p:nvPicPr>
        <p:blipFill>
          <a:blip r:embed="rId1"/>
          <a:stretch/>
        </p:blipFill>
        <p:spPr>
          <a:xfrm>
            <a:off x="900000" y="1989000"/>
            <a:ext cx="3743280" cy="439272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3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0" y="11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1" name="Picture 13" descr="6гж"/>
          <p:cNvPicPr/>
          <p:nvPr/>
        </p:nvPicPr>
        <p:blipFill>
          <a:blip r:embed="rId2"/>
          <a:stretch/>
        </p:blipFill>
        <p:spPr>
          <a:xfrm>
            <a:off x="4859280" y="1989000"/>
            <a:ext cx="374832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Многосценарное планирование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0" y="11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407" name="Object 9"/>
          <p:cNvGraphicFramePr/>
          <p:nvPr/>
        </p:nvGraphicFramePr>
        <p:xfrm>
          <a:off x="2050920" y="4160880"/>
          <a:ext cx="4754520" cy="23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4160880"/>
                    <a:ext cx="475452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Rectangle 11"/>
          <p:cNvSpPr/>
          <p:nvPr/>
        </p:nvSpPr>
        <p:spPr>
          <a:xfrm>
            <a:off x="250920" y="1628640"/>
            <a:ext cx="81374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Используя возможности многосценарного планирования предприятием просчитываются несколько вариантов развития событий.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Определяются оптимистические и пессимистические результаты.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Проводится стратегическое и оперативное планирование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Управление платежеспособностью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0" y="11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539640" y="1628640"/>
            <a:ext cx="7848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685800" y="1700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Большое значение при планировании деятельности предприятия играет сезонность основного бизнеса. Это приводит к необходимости расчета платежеспособности в период спада объемов продаж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Для этого формируются следующие бюджеты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Бюджет движения денежных средств (БДДС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Платежный календарь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На основе них решается вопрос о привлечении заемных средств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Управление платежеспособностью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0" y="11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423" name="Object 8"/>
          <p:cNvGraphicFramePr/>
          <p:nvPr/>
        </p:nvGraphicFramePr>
        <p:xfrm>
          <a:off x="1116000" y="1989000"/>
          <a:ext cx="7488360" cy="45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89000"/>
                    <a:ext cx="748836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латежный календарь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graphicFrame>
        <p:nvGraphicFramePr>
          <p:cNvPr id="426" name="Object 11"/>
          <p:cNvGraphicFramePr/>
          <p:nvPr/>
        </p:nvGraphicFramePr>
        <p:xfrm>
          <a:off x="2490840" y="1628640"/>
          <a:ext cx="402588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0840" y="1628640"/>
                    <a:ext cx="40258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Настройка совместимости программ 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0" y="11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3" name="Rectangle 8"/>
          <p:cNvSpPr/>
          <p:nvPr/>
        </p:nvSpPr>
        <p:spPr>
          <a:xfrm>
            <a:off x="685800" y="1700280"/>
            <a:ext cx="77724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Для эффективного взаимодействия всех подразделений предприятия и увеличения производительности труда сотрудников планово-экономического управления настроена автоматическая конвертация данных из программ, используемых другими подразделениями предприятия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Сметной программой (УКС)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Программой по учету газа (Отдел реализации газа)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Бухгалтерской программой (Бухгалтерия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Совместимость со сметной программой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0" y="11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439" name="Object 7"/>
          <p:cNvGraphicFramePr/>
          <p:nvPr/>
        </p:nvGraphicFramePr>
        <p:xfrm>
          <a:off x="755640" y="1989000"/>
          <a:ext cx="774072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74072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Общие сведения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Бизнесы организации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Реализация сетевого и сжиженного газа (основная деятельность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Проектирование и строительство систем газоснабжения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Услуги по установке, обслуживанию и ремонту газового оборудования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Структура компании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4 территориально удаленных участка реализации газа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Строительный участок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Управление компанией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Специфика бизнес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Основной бизнес компании жестко регулируется государством (тарифная система ценообразования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Субсидирование отдельных видов деятельности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3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Совместимость с программой по учету объемов газа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42" name="Rectangle 43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443" name="Object 42"/>
          <p:cNvGraphicFramePr/>
          <p:nvPr/>
        </p:nvGraphicFramePr>
        <p:xfrm>
          <a:off x="684360" y="1989000"/>
          <a:ext cx="7705440" cy="40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705440" cy="40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реимущества комплекс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Возможность эффективного управления компанией через: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Планирование деятельности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Управление финансовыми потокам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Возможность прогнозирования финансового состояния предприятия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Гибкий план-фактный анализ деятельности предприятия по центрам ответственности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Анализ деятельности компании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Проводится 2 вида анализа: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Оперативный (в течение месяца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Контроль за исполнением платежного календаря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Комплексный (по итогам месяца, квартала, года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План-фактный анализ деятельности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Расчет финансовых показателей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Оценка результатов деятельности компании и отдельных бизнес-направлений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План-фактный анализ деятельности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450" name="Picture 10" descr="бдр"/>
          <p:cNvPicPr/>
          <p:nvPr/>
        </p:nvPicPr>
        <p:blipFill>
          <a:blip r:embed="rId1"/>
          <a:stretch/>
        </p:blipFill>
        <p:spPr>
          <a:xfrm>
            <a:off x="1546200" y="1916280"/>
            <a:ext cx="60501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Формализация бизнес-процессов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В процессе выполнения проекта были регламентированы бизнес-процессы составления бюджетов предприятия.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453" name="Group 4"/>
          <p:cNvGrpSpPr/>
          <p:nvPr/>
        </p:nvGrpSpPr>
        <p:grpSpPr>
          <a:xfrm>
            <a:off x="1403280" y="3068640"/>
            <a:ext cx="6697800" cy="3389400"/>
            <a:chOff x="1403280" y="3068640"/>
            <a:chExt cx="6697800" cy="3389400"/>
          </a:xfrm>
        </p:grpSpPr>
        <p:sp>
          <p:nvSpPr>
            <p:cNvPr id="454" name="AutoShape 5"/>
            <p:cNvSpPr/>
            <p:nvPr/>
          </p:nvSpPr>
          <p:spPr>
            <a:xfrm>
              <a:off x="1403280" y="3068640"/>
              <a:ext cx="6697800" cy="338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5" name="Rectangle 6"/>
            <p:cNvSpPr/>
            <p:nvPr/>
          </p:nvSpPr>
          <p:spPr>
            <a:xfrm>
              <a:off x="6603120" y="3403080"/>
              <a:ext cx="14889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Законодательная база РФ</a:t>
              </a:r>
              <a:endParaRPr b="0" lang="en-US" sz="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6" name="Rectangle 7"/>
            <p:cNvSpPr/>
            <p:nvPr/>
          </p:nvSpPr>
          <p:spPr>
            <a:xfrm>
              <a:off x="2653920" y="6077880"/>
              <a:ext cx="25092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ПЭУ</a:t>
              </a:r>
              <a:endParaRPr b="0" lang="en-US" sz="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7" name="Rectangle 8"/>
            <p:cNvSpPr/>
            <p:nvPr/>
          </p:nvSpPr>
          <p:spPr>
            <a:xfrm>
              <a:off x="6086880" y="5832000"/>
              <a:ext cx="201384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Бухгалтерская служба</a:t>
              </a:r>
              <a:endParaRPr b="0" lang="en-US" sz="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8" name="Rectangle 9"/>
            <p:cNvSpPr/>
            <p:nvPr/>
          </p:nvSpPr>
          <p:spPr>
            <a:xfrm>
              <a:off x="6100560" y="6111360"/>
              <a:ext cx="11588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Отдел эксплуатации</a:t>
              </a:r>
              <a:endParaRPr b="0" lang="en-US" sz="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9" name="Rectangle 10"/>
            <p:cNvSpPr/>
            <p:nvPr/>
          </p:nvSpPr>
          <p:spPr>
            <a:xfrm>
              <a:off x="4933800" y="6116400"/>
              <a:ext cx="26532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СМУ</a:t>
              </a:r>
              <a:endParaRPr b="0" lang="en-US" sz="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grpSp>
          <p:nvGrpSpPr>
            <p:cNvPr id="460" name="Group 11"/>
            <p:cNvGrpSpPr/>
            <p:nvPr/>
          </p:nvGrpSpPr>
          <p:grpSpPr>
            <a:xfrm>
              <a:off x="1403280" y="3068640"/>
              <a:ext cx="6288840" cy="3123000"/>
              <a:chOff x="1403280" y="3068640"/>
              <a:chExt cx="6288840" cy="3123000"/>
            </a:xfrm>
          </p:grpSpPr>
          <p:sp>
            <p:nvSpPr>
              <p:cNvPr id="461" name="Rectangle 12"/>
              <p:cNvSpPr/>
              <p:nvPr/>
            </p:nvSpPr>
            <p:spPr>
              <a:xfrm>
                <a:off x="1422720" y="3848760"/>
                <a:ext cx="1242720" cy="19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Лимиты поставки газа</a:t>
                </a:r>
                <a:endParaRPr b="0" lang="en-US" sz="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62" name="Rectangle 13"/>
              <p:cNvSpPr/>
              <p:nvPr/>
            </p:nvSpPr>
            <p:spPr>
              <a:xfrm>
                <a:off x="1422720" y="3960360"/>
                <a:ext cx="135396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Заявки на поставку газа</a:t>
                </a:r>
                <a:endParaRPr b="0" lang="en-US" sz="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63" name="Rectangle 14"/>
              <p:cNvSpPr/>
              <p:nvPr/>
            </p:nvSpPr>
            <p:spPr>
              <a:xfrm>
                <a:off x="1422720" y="4183200"/>
                <a:ext cx="1154160" cy="13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Договора на покупку</a:t>
                </a:r>
                <a:endParaRPr b="0" lang="en-US" sz="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64" name="Rectangle 15"/>
              <p:cNvSpPr/>
              <p:nvPr/>
            </p:nvSpPr>
            <p:spPr>
              <a:xfrm>
                <a:off x="1422720" y="4294800"/>
                <a:ext cx="141912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Договора на реализацию</a:t>
                </a:r>
                <a:endParaRPr b="0" lang="en-US" sz="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65" name="Rectangle 16"/>
              <p:cNvSpPr/>
              <p:nvPr/>
            </p:nvSpPr>
            <p:spPr>
              <a:xfrm>
                <a:off x="1422720" y="4406040"/>
                <a:ext cx="155772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Данные прошлых периодов</a:t>
                </a:r>
                <a:endParaRPr b="0" lang="en-US" sz="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66" name="Rectangle 17"/>
              <p:cNvSpPr/>
              <p:nvPr/>
            </p:nvSpPr>
            <p:spPr>
              <a:xfrm>
                <a:off x="1428120" y="4628880"/>
                <a:ext cx="109980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Начальные данные</a:t>
                </a:r>
                <a:endParaRPr b="0" lang="en-US" sz="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67" name="Rectangle 18"/>
              <p:cNvSpPr/>
              <p:nvPr/>
            </p:nvSpPr>
            <p:spPr>
              <a:xfrm>
                <a:off x="2109240" y="3068640"/>
                <a:ext cx="14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Постановления РЭК, ФЭК</a:t>
                </a:r>
                <a:endParaRPr b="0" lang="en-US" sz="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68" name="Freeform 19"/>
              <p:cNvSpPr/>
              <p:nvPr/>
            </p:nvSpPr>
            <p:spPr>
              <a:xfrm>
                <a:off x="3578400" y="3141000"/>
                <a:ext cx="366840" cy="64440"/>
              </a:xfrm>
              <a:prstGeom prst="pie">
                <a:avLst/>
              </a:prstGeom>
              <a:noFill/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>
                <a:off x="2109240" y="3403080"/>
                <a:ext cx="1703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Внутрифирменные стандарты</a:t>
                </a:r>
                <a:endParaRPr b="0" lang="en-US" sz="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70" name="Freeform 21"/>
              <p:cNvSpPr/>
              <p:nvPr/>
            </p:nvSpPr>
            <p:spPr>
              <a:xfrm>
                <a:off x="3558600" y="3328560"/>
                <a:ext cx="975600" cy="64440"/>
              </a:xfrm>
              <a:prstGeom prst="pie">
                <a:avLst/>
              </a:prstGeom>
              <a:noFill/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71" name="Freeform 22"/>
              <p:cNvSpPr/>
              <p:nvPr/>
            </p:nvSpPr>
            <p:spPr>
              <a:xfrm>
                <a:off x="5123880" y="3473280"/>
                <a:ext cx="1467720" cy="64440"/>
              </a:xfrm>
              <a:prstGeom prst="pie">
                <a:avLst/>
              </a:prstGeom>
              <a:noFill/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>
                <a:off x="6276960" y="3151440"/>
                <a:ext cx="1415160" cy="17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Нормативы МО</a:t>
                </a:r>
                <a:endParaRPr b="0" lang="en-US" sz="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73" name="Freeform 24"/>
              <p:cNvSpPr/>
              <p:nvPr/>
            </p:nvSpPr>
            <p:spPr>
              <a:xfrm>
                <a:off x="5746680" y="3194280"/>
                <a:ext cx="530280" cy="155160"/>
              </a:xfrm>
              <a:prstGeom prst="pie">
                <a:avLst/>
              </a:prstGeom>
              <a:noFill/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74" name="Freeform 25"/>
              <p:cNvSpPr/>
              <p:nvPr/>
            </p:nvSpPr>
            <p:spPr>
              <a:xfrm>
                <a:off x="3008520" y="6089760"/>
                <a:ext cx="936360" cy="64440"/>
              </a:xfrm>
              <a:prstGeom prst="pie">
                <a:avLst/>
              </a:prstGeom>
              <a:noFill/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>
                <a:off x="2653920" y="5632200"/>
                <a:ext cx="8902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Отдел режимов</a:t>
                </a:r>
                <a:endParaRPr b="0" lang="en-US" sz="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76" name="Freeform 27"/>
              <p:cNvSpPr/>
              <p:nvPr/>
            </p:nvSpPr>
            <p:spPr>
              <a:xfrm>
                <a:off x="3650040" y="5762880"/>
                <a:ext cx="753480" cy="85320"/>
              </a:xfrm>
              <a:prstGeom prst="pie">
                <a:avLst/>
              </a:prstGeom>
              <a:noFill/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77" name="Freeform 28"/>
              <p:cNvSpPr/>
              <p:nvPr/>
            </p:nvSpPr>
            <p:spPr>
              <a:xfrm>
                <a:off x="5288040" y="5575320"/>
                <a:ext cx="798840" cy="300240"/>
              </a:xfrm>
              <a:prstGeom prst="pie">
                <a:avLst/>
              </a:prstGeom>
              <a:noFill/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78" name="Freeform 29"/>
              <p:cNvSpPr/>
              <p:nvPr/>
            </p:nvSpPr>
            <p:spPr>
              <a:xfrm>
                <a:off x="5746680" y="6100200"/>
                <a:ext cx="353880" cy="64440"/>
              </a:xfrm>
              <a:prstGeom prst="pie">
                <a:avLst/>
              </a:prstGeom>
              <a:noFill/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79" name="Freeform 30"/>
              <p:cNvSpPr/>
              <p:nvPr/>
            </p:nvSpPr>
            <p:spPr>
              <a:xfrm>
                <a:off x="4829760" y="5762880"/>
                <a:ext cx="104040" cy="396720"/>
              </a:xfrm>
              <a:prstGeom prst="pie">
                <a:avLst/>
              </a:prstGeom>
              <a:noFill/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80" name="Rectangle 31"/>
              <p:cNvSpPr/>
              <p:nvPr/>
            </p:nvSpPr>
            <p:spPr>
              <a:xfrm>
                <a:off x="1428120" y="3618360"/>
                <a:ext cx="1182240" cy="23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Штатное расписание</a:t>
                </a:r>
                <a:endParaRPr b="0" lang="en-US" sz="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81" name="Rectangle 32"/>
              <p:cNvSpPr/>
              <p:nvPr/>
            </p:nvSpPr>
            <p:spPr>
              <a:xfrm>
                <a:off x="1422720" y="4740480"/>
                <a:ext cx="933480" cy="23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Смета ремонтов</a:t>
                </a:r>
                <a:endParaRPr b="0" lang="en-US" sz="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82" name="Rectangle 33"/>
              <p:cNvSpPr/>
              <p:nvPr/>
            </p:nvSpPr>
            <p:spPr>
              <a:xfrm>
                <a:off x="1403280" y="4984920"/>
                <a:ext cx="13330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Объемы строительства</a:t>
                </a:r>
                <a:endParaRPr b="0" lang="en-US" sz="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83" name="Rectangle 34"/>
              <p:cNvSpPr/>
              <p:nvPr/>
            </p:nvSpPr>
            <p:spPr>
              <a:xfrm>
                <a:off x="1422720" y="5074920"/>
                <a:ext cx="12013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Объемы работ, услуг</a:t>
                </a:r>
                <a:endParaRPr b="0" lang="en-US" sz="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84" name="Rectangle 35"/>
              <p:cNvSpPr/>
              <p:nvPr/>
            </p:nvSpPr>
            <p:spPr>
              <a:xfrm>
                <a:off x="1428120" y="5297760"/>
                <a:ext cx="97956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Заявки на оплату</a:t>
                </a:r>
                <a:endParaRPr b="0" lang="en-US" sz="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85" name="Freeform 36"/>
              <p:cNvSpPr/>
              <p:nvPr/>
            </p:nvSpPr>
            <p:spPr>
              <a:xfrm>
                <a:off x="3715920" y="3752280"/>
                <a:ext cx="2358000" cy="1769040"/>
              </a:xfrm>
              <a:prstGeom prst="pi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86" name="Rectangle 37"/>
              <p:cNvSpPr/>
              <p:nvPr/>
            </p:nvSpPr>
            <p:spPr>
              <a:xfrm>
                <a:off x="3650040" y="3698280"/>
                <a:ext cx="2345040" cy="1758600"/>
              </a:xfrm>
              <a:prstGeom prst="rect">
                <a:avLst/>
              </a:prstGeom>
              <a:noFill/>
              <a:ln w="10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87" name="Rectangle 38"/>
              <p:cNvSpPr/>
              <p:nvPr/>
            </p:nvSpPr>
            <p:spPr>
              <a:xfrm>
                <a:off x="5929920" y="5365800"/>
                <a:ext cx="50400" cy="12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88" name="Rectangle 39"/>
              <p:cNvSpPr/>
              <p:nvPr/>
            </p:nvSpPr>
            <p:spPr>
              <a:xfrm>
                <a:off x="3683520" y="5365800"/>
                <a:ext cx="55512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000000"/>
                    </a:solidFill>
                    <a:latin typeface="Arial"/>
                  </a:rPr>
                  <a:t>0р.</a:t>
                </a:r>
                <a:endParaRPr b="0" lang="en-US" sz="6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89" name="Rectangle 40"/>
              <p:cNvSpPr/>
              <p:nvPr/>
            </p:nvSpPr>
            <p:spPr>
              <a:xfrm>
                <a:off x="4024080" y="4443840"/>
                <a:ext cx="1650600" cy="51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Бюджетная модель</a:t>
                </a:r>
                <a:endParaRPr b="0" lang="en-US" sz="12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90" name="Line 41"/>
              <p:cNvSpPr/>
              <p:nvPr/>
            </p:nvSpPr>
            <p:spPr>
              <a:xfrm>
                <a:off x="1422720" y="3805560"/>
                <a:ext cx="2155320" cy="36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91" name="Freeform 42"/>
              <p:cNvSpPr/>
              <p:nvPr/>
            </p:nvSpPr>
            <p:spPr>
              <a:xfrm>
                <a:off x="3578400" y="3784320"/>
                <a:ext cx="71640" cy="42480"/>
              </a:xfrm>
              <a:prstGeom prst="pie">
                <a:avLst/>
              </a:prstGeom>
              <a:solidFill>
                <a:srgbClr val="000000"/>
              </a:solidFill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92" name="Line 43"/>
              <p:cNvSpPr/>
              <p:nvPr/>
            </p:nvSpPr>
            <p:spPr>
              <a:xfrm>
                <a:off x="1422720" y="3966480"/>
                <a:ext cx="2155320" cy="36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93" name="Freeform 44"/>
              <p:cNvSpPr/>
              <p:nvPr/>
            </p:nvSpPr>
            <p:spPr>
              <a:xfrm>
                <a:off x="3578400" y="3945240"/>
                <a:ext cx="71640" cy="42480"/>
              </a:xfrm>
              <a:prstGeom prst="pie">
                <a:avLst/>
              </a:prstGeom>
              <a:solidFill>
                <a:srgbClr val="000000"/>
              </a:solidFill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94" name="Line 45"/>
              <p:cNvSpPr/>
              <p:nvPr/>
            </p:nvSpPr>
            <p:spPr>
              <a:xfrm>
                <a:off x="1422720" y="4127400"/>
                <a:ext cx="2155320" cy="36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95" name="Freeform 46"/>
              <p:cNvSpPr/>
              <p:nvPr/>
            </p:nvSpPr>
            <p:spPr>
              <a:xfrm>
                <a:off x="3578400" y="4105800"/>
                <a:ext cx="71640" cy="43200"/>
              </a:xfrm>
              <a:prstGeom prst="pie">
                <a:avLst/>
              </a:prstGeom>
              <a:solidFill>
                <a:srgbClr val="000000"/>
              </a:solidFill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96" name="Line 47"/>
              <p:cNvSpPr/>
              <p:nvPr/>
            </p:nvSpPr>
            <p:spPr>
              <a:xfrm>
                <a:off x="1422720" y="4288320"/>
                <a:ext cx="2155320" cy="36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97" name="Freeform 48"/>
              <p:cNvSpPr/>
              <p:nvPr/>
            </p:nvSpPr>
            <p:spPr>
              <a:xfrm>
                <a:off x="3578400" y="4266720"/>
                <a:ext cx="71640" cy="42480"/>
              </a:xfrm>
              <a:prstGeom prst="pie">
                <a:avLst/>
              </a:prstGeom>
              <a:solidFill>
                <a:srgbClr val="000000"/>
              </a:solidFill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98" name="Line 49"/>
              <p:cNvSpPr/>
              <p:nvPr/>
            </p:nvSpPr>
            <p:spPr>
              <a:xfrm>
                <a:off x="1422720" y="4448880"/>
                <a:ext cx="2155320" cy="36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99" name="Freeform 50"/>
              <p:cNvSpPr/>
              <p:nvPr/>
            </p:nvSpPr>
            <p:spPr>
              <a:xfrm>
                <a:off x="3578400" y="4428000"/>
                <a:ext cx="71640" cy="42480"/>
              </a:xfrm>
              <a:prstGeom prst="pie">
                <a:avLst/>
              </a:prstGeom>
              <a:solidFill>
                <a:srgbClr val="000000"/>
              </a:solidFill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00" name="Line 51"/>
              <p:cNvSpPr/>
              <p:nvPr/>
            </p:nvSpPr>
            <p:spPr>
              <a:xfrm>
                <a:off x="1422720" y="4609800"/>
                <a:ext cx="2155320" cy="36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01" name="Freeform 52"/>
              <p:cNvSpPr/>
              <p:nvPr/>
            </p:nvSpPr>
            <p:spPr>
              <a:xfrm>
                <a:off x="3578400" y="4588920"/>
                <a:ext cx="71640" cy="42480"/>
              </a:xfrm>
              <a:prstGeom prst="pie">
                <a:avLst/>
              </a:prstGeom>
              <a:solidFill>
                <a:srgbClr val="000000"/>
              </a:solidFill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02" name="Line 53"/>
              <p:cNvSpPr/>
              <p:nvPr/>
            </p:nvSpPr>
            <p:spPr>
              <a:xfrm>
                <a:off x="1422720" y="4770720"/>
                <a:ext cx="2155320" cy="36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03" name="Freeform 54"/>
              <p:cNvSpPr/>
              <p:nvPr/>
            </p:nvSpPr>
            <p:spPr>
              <a:xfrm>
                <a:off x="3578400" y="4749120"/>
                <a:ext cx="71640" cy="43200"/>
              </a:xfrm>
              <a:prstGeom prst="pie">
                <a:avLst/>
              </a:prstGeom>
              <a:solidFill>
                <a:srgbClr val="000000"/>
              </a:solidFill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04" name="Line 55"/>
              <p:cNvSpPr/>
              <p:nvPr/>
            </p:nvSpPr>
            <p:spPr>
              <a:xfrm>
                <a:off x="1422720" y="4932000"/>
                <a:ext cx="2155320" cy="36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05" name="Freeform 56"/>
              <p:cNvSpPr/>
              <p:nvPr/>
            </p:nvSpPr>
            <p:spPr>
              <a:xfrm>
                <a:off x="3578400" y="4910040"/>
                <a:ext cx="71640" cy="42480"/>
              </a:xfrm>
              <a:prstGeom prst="pie">
                <a:avLst/>
              </a:prstGeom>
              <a:solidFill>
                <a:srgbClr val="000000"/>
              </a:solidFill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06" name="Line 57"/>
              <p:cNvSpPr/>
              <p:nvPr/>
            </p:nvSpPr>
            <p:spPr>
              <a:xfrm>
                <a:off x="1422720" y="5092920"/>
                <a:ext cx="2155320" cy="36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07" name="Freeform 58"/>
              <p:cNvSpPr/>
              <p:nvPr/>
            </p:nvSpPr>
            <p:spPr>
              <a:xfrm>
                <a:off x="3578400" y="5070960"/>
                <a:ext cx="71640" cy="42480"/>
              </a:xfrm>
              <a:prstGeom prst="pie">
                <a:avLst/>
              </a:prstGeom>
              <a:solidFill>
                <a:srgbClr val="000000"/>
              </a:solidFill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08" name="Line 59"/>
              <p:cNvSpPr/>
              <p:nvPr/>
            </p:nvSpPr>
            <p:spPr>
              <a:xfrm>
                <a:off x="1422720" y="5253120"/>
                <a:ext cx="2155320" cy="36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09" name="Freeform 60"/>
              <p:cNvSpPr/>
              <p:nvPr/>
            </p:nvSpPr>
            <p:spPr>
              <a:xfrm>
                <a:off x="3578400" y="5232240"/>
                <a:ext cx="71640" cy="42480"/>
              </a:xfrm>
              <a:prstGeom prst="pie">
                <a:avLst/>
              </a:prstGeom>
              <a:solidFill>
                <a:srgbClr val="000000"/>
              </a:solidFill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10" name="Line 61"/>
              <p:cNvSpPr/>
              <p:nvPr/>
            </p:nvSpPr>
            <p:spPr>
              <a:xfrm>
                <a:off x="1428120" y="5414040"/>
                <a:ext cx="2149920" cy="36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11" name="Freeform 62"/>
              <p:cNvSpPr/>
              <p:nvPr/>
            </p:nvSpPr>
            <p:spPr>
              <a:xfrm>
                <a:off x="3578400" y="5392440"/>
                <a:ext cx="71640" cy="43200"/>
              </a:xfrm>
              <a:prstGeom prst="pie">
                <a:avLst/>
              </a:prstGeom>
              <a:solidFill>
                <a:srgbClr val="000000"/>
              </a:solidFill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12" name="Line 63"/>
              <p:cNvSpPr/>
              <p:nvPr/>
            </p:nvSpPr>
            <p:spPr>
              <a:xfrm flipV="1">
                <a:off x="3945240" y="5526720"/>
                <a:ext cx="360" cy="66492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13" name="Freeform 64"/>
              <p:cNvSpPr/>
              <p:nvPr/>
            </p:nvSpPr>
            <p:spPr>
              <a:xfrm>
                <a:off x="3918960" y="5468040"/>
                <a:ext cx="52560" cy="58680"/>
              </a:xfrm>
              <a:prstGeom prst="pie">
                <a:avLst/>
              </a:prstGeom>
              <a:solidFill>
                <a:srgbClr val="000000"/>
              </a:solidFill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14" name="Line 65"/>
              <p:cNvSpPr/>
              <p:nvPr/>
            </p:nvSpPr>
            <p:spPr>
              <a:xfrm>
                <a:off x="3945240" y="3135600"/>
                <a:ext cx="360" cy="50400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15" name="Freeform 66"/>
              <p:cNvSpPr/>
              <p:nvPr/>
            </p:nvSpPr>
            <p:spPr>
              <a:xfrm>
                <a:off x="3918960" y="3639600"/>
                <a:ext cx="52560" cy="58680"/>
              </a:xfrm>
              <a:prstGeom prst="pie">
                <a:avLst/>
              </a:prstGeom>
              <a:solidFill>
                <a:srgbClr val="000000"/>
              </a:solidFill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16" name="Line 67"/>
              <p:cNvSpPr/>
              <p:nvPr/>
            </p:nvSpPr>
            <p:spPr>
              <a:xfrm flipV="1">
                <a:off x="4403520" y="5526720"/>
                <a:ext cx="720" cy="66492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17" name="Freeform 68"/>
              <p:cNvSpPr/>
              <p:nvPr/>
            </p:nvSpPr>
            <p:spPr>
              <a:xfrm>
                <a:off x="4377240" y="5468040"/>
                <a:ext cx="52920" cy="58680"/>
              </a:xfrm>
              <a:prstGeom prst="pie">
                <a:avLst/>
              </a:prstGeom>
              <a:solidFill>
                <a:srgbClr val="000000"/>
              </a:solidFill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18" name="Line 69"/>
              <p:cNvSpPr/>
              <p:nvPr/>
            </p:nvSpPr>
            <p:spPr>
              <a:xfrm>
                <a:off x="4534560" y="3135600"/>
                <a:ext cx="360" cy="50400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19" name="Freeform 70"/>
              <p:cNvSpPr/>
              <p:nvPr/>
            </p:nvSpPr>
            <p:spPr>
              <a:xfrm>
                <a:off x="4509000" y="3639600"/>
                <a:ext cx="51840" cy="58680"/>
              </a:xfrm>
              <a:prstGeom prst="pie">
                <a:avLst/>
              </a:prstGeom>
              <a:solidFill>
                <a:srgbClr val="000000"/>
              </a:solidFill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20" name="Line 71"/>
              <p:cNvSpPr/>
              <p:nvPr/>
            </p:nvSpPr>
            <p:spPr>
              <a:xfrm flipV="1">
                <a:off x="4829760" y="5526720"/>
                <a:ext cx="360" cy="66492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21" name="Freeform 72"/>
              <p:cNvSpPr/>
              <p:nvPr/>
            </p:nvSpPr>
            <p:spPr>
              <a:xfrm>
                <a:off x="4803120" y="5468040"/>
                <a:ext cx="51840" cy="58680"/>
              </a:xfrm>
              <a:prstGeom prst="pie">
                <a:avLst/>
              </a:prstGeom>
              <a:solidFill>
                <a:srgbClr val="000000"/>
              </a:solidFill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22" name="Line 73"/>
              <p:cNvSpPr/>
              <p:nvPr/>
            </p:nvSpPr>
            <p:spPr>
              <a:xfrm>
                <a:off x="5123880" y="3135600"/>
                <a:ext cx="720" cy="50400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23" name="Freeform 74"/>
              <p:cNvSpPr/>
              <p:nvPr/>
            </p:nvSpPr>
            <p:spPr>
              <a:xfrm>
                <a:off x="5098320" y="3639600"/>
                <a:ext cx="52200" cy="58680"/>
              </a:xfrm>
              <a:prstGeom prst="pie">
                <a:avLst/>
              </a:prstGeom>
              <a:solidFill>
                <a:srgbClr val="000000"/>
              </a:solidFill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24" name="Line 75"/>
              <p:cNvSpPr/>
              <p:nvPr/>
            </p:nvSpPr>
            <p:spPr>
              <a:xfrm flipV="1">
                <a:off x="5288040" y="5526720"/>
                <a:ext cx="720" cy="66492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25" name="Freeform 76"/>
              <p:cNvSpPr/>
              <p:nvPr/>
            </p:nvSpPr>
            <p:spPr>
              <a:xfrm>
                <a:off x="5261760" y="5468040"/>
                <a:ext cx="52560" cy="58680"/>
              </a:xfrm>
              <a:prstGeom prst="pie">
                <a:avLst/>
              </a:prstGeom>
              <a:solidFill>
                <a:srgbClr val="000000"/>
              </a:solidFill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26" name="Line 77"/>
              <p:cNvSpPr/>
              <p:nvPr/>
            </p:nvSpPr>
            <p:spPr>
              <a:xfrm flipV="1">
                <a:off x="5746680" y="5526720"/>
                <a:ext cx="720" cy="66492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27" name="Freeform 78"/>
              <p:cNvSpPr/>
              <p:nvPr/>
            </p:nvSpPr>
            <p:spPr>
              <a:xfrm>
                <a:off x="5720040" y="5468040"/>
                <a:ext cx="52920" cy="58680"/>
              </a:xfrm>
              <a:prstGeom prst="pie">
                <a:avLst/>
              </a:prstGeom>
              <a:solidFill>
                <a:srgbClr val="000000"/>
              </a:solidFill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28" name="Line 79"/>
              <p:cNvSpPr/>
              <p:nvPr/>
            </p:nvSpPr>
            <p:spPr>
              <a:xfrm>
                <a:off x="5746680" y="3135600"/>
                <a:ext cx="720" cy="50400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529" name="Freeform 80"/>
              <p:cNvSpPr/>
              <p:nvPr/>
            </p:nvSpPr>
            <p:spPr>
              <a:xfrm>
                <a:off x="5720040" y="3639600"/>
                <a:ext cx="52920" cy="58680"/>
              </a:xfrm>
              <a:prstGeom prst="pie">
                <a:avLst/>
              </a:prstGeom>
              <a:solidFill>
                <a:srgbClr val="000000"/>
              </a:solidFill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роцесс формирования БДР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0" y="11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537" name="Object 9"/>
          <p:cNvGraphicFramePr/>
          <p:nvPr/>
        </p:nvGraphicFramePr>
        <p:xfrm>
          <a:off x="1042920" y="1773360"/>
          <a:ext cx="7489800" cy="483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73360"/>
                    <a:ext cx="748980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Регламенты и положения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В процессе внедрения системы были разработаны и утверждены следующие документы: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Положение о финансовой структуре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Положение о бюджетной структуре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Управленческая учетная политик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Положение о планирован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Положение о финансово-экономическом анализе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Регламенты бухгалтерского учет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Перспективы развития системы управления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Разработка системы сбалансированных показателей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Взаимосвязь системы бюджетирования с премиальным положением предприятия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Результаты проект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Увеличение управляемости предприятием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Четкая обоснованность принимаемых решений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Определение стратегических целей и путей их достижения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Разработчик системы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Разработчик системы: компания «Инталев»,</a:t>
            </a: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 http://www.intalev.ru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Постановку и внедрение осуществлял партнер компании «Инталев»: ООО «Аудиторская фирма «Экономикс бюро»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Адрес: г. Екатеринбург ул. Луначарского, 31, 803а</a:t>
            </a: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Телефон: (343) 355-42-92, 355-14-37,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e-mail: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c09e4a"/>
                </a:solidFill>
                <a:uFillTx/>
                <a:latin typeface="Times New Roman"/>
                <a:hlinkClick r:id="rId5"/>
              </a:rPr>
              <a:t>mail@econburo.ru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 http://</a:t>
            </a:r>
            <a:r>
              <a:rPr b="0" lang="en-US" sz="2800" spc="-1" strike="noStrike" u="sng">
                <a:solidFill>
                  <a:srgbClr val="c09e4a"/>
                </a:solidFill>
                <a:uFillTx/>
                <a:latin typeface="Times New Roman"/>
                <a:hlinkClick r:id="rId6"/>
              </a:rPr>
              <a:t>www.econburo.ru</a:t>
            </a: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Цель проект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Повышение управляемости бизнеса предприятия через</a:t>
            </a: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создание</a:t>
            </a: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системы сбалансированных бюджетов и показателей, позволяющих осуществлять планирование, анализ и контроль деятельности как предприятия в целом, так и его отдельных структурных подразделений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Основные задачи проекта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Создание системы стратегических и оперативных планов предприятия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Повышение эффективности использования ресурсов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Мониторинг и анализ финансового состояния предприятия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Анализ рентабельности отдельных видов продуктов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Контроль над состоянием ликвидности предприятия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Автоматизация решений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Для решения поставленных задач был создан программный комплекс для планирования, учета, контроля и анализа деятельности компании, на базе программ семейства 1С.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Состав комплекса: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Управленческая программа</a:t>
            </a: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на базе Инталев: Корпоративные финансы 2004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Программа по учету объемов газ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Бухгалтерская программа предприятия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Программа по учету договоров и формированию платежного календаря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Сметная программ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Этапы выполнения работ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Анализ имеющейся модели предприятия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Формирование финансовой структуры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Формирование бюджетной структуры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Настройка процесса планирования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Определение используемых финансовых и управленческих показателей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Настройка программы «Инталев: Корпоративные финансы» и ее совместимости с используемыми предприятием программам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Финансовая структур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365" name="Object 5"/>
          <p:cNvGraphicFramePr/>
          <p:nvPr/>
        </p:nvGraphicFramePr>
        <p:xfrm>
          <a:off x="1476360" y="1484280"/>
          <a:ext cx="5943600" cy="49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5943600" cy="49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Бюджетная структур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11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372" name="Object 7"/>
          <p:cNvGraphicFramePr/>
          <p:nvPr/>
        </p:nvGraphicFramePr>
        <p:xfrm>
          <a:off x="971640" y="1628640"/>
          <a:ext cx="7272360" cy="473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628640"/>
                    <a:ext cx="727236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Схема формирования БДР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0" y="11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547640" y="1773360"/>
          <a:ext cx="5753160" cy="45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773360"/>
                    <a:ext cx="575316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05:03:04Z</dcterms:created>
  <dc:creator>kazakov_aj</dc:creator>
  <dc:description/>
  <dc:language>en-US</dc:language>
  <cp:lastModifiedBy>kazantsev_ka</cp:lastModifiedBy>
  <dcterms:modified xsi:type="dcterms:W3CDTF">2008-08-06T10:38:49Z</dcterms:modified>
  <cp:revision>53</cp:revision>
  <dc:subject/>
  <dc:title>Автоматизация предприятий оптово-розничной торгов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