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AE32-3F4C-4003-951B-A7BAF60E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AFF6-0777-4C66-8BBE-1C8C4459B328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:Бухгалтерия 7.7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фигурац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газораспределительных организ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8519-09ED-4CEC-8163-EF0F0CE99519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а (спецнадбавка, бюджетное строительство, прибыль, строительство на стор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984F-A1F2-4D78-A2B6-21B29FC20651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 счетов доработан под нужды ГРО – выделение субсчетов под строительство (строительство хоз.способом, бюджетное строительство, строительство за счет собственных средств, строительство за счет спецнадбавки), аналитика учета имущества по участкам предприятия, учет взаимоотношения с бюджетом по участк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настройка плана счетов имеется в поставляемой версии программы. При необходимости внесения изменений в план счетов эти действия может выполнить пользователь либо администратор системы, имеющий соответствующие пр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96A8-5216-4324-B0ED-D3F2BD5B71A3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тьи затрат разработаны в соответствии 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м Правительства РФ № 552, рекомендуемым для применения в методике по расчету тариф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слевыми методическими рекомендациями в газораспределительных организац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ическим рекомендациями по учету затрат в промышлен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 Главой НК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тьи затрат иерархически сгруппирова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формирования отчетов по элементам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BBFB-78AC-49FF-9CFC-FB8AECD6AC4C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н позаказный учет вспомогательных подразделений. Затраты вспомогательных подразделений списываются на счета затрат основных подразделений (подразделений-заказчиков) пропорционально фактической трудоемкости (или иной базе), указываемой в отчете вспомогательного подразд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D1BA-EDF8-42A5-8B69-775D5D3D2532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грузка данных в программу финансового планирования, в том числе в Интал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8BA2-1CD5-4B11-B946-EB6501F75EC9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0D9B-958E-4B00-BB75-29F918ACBFDF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данным из 1С:Бухгалтерии формируется отчет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категориям льгот в разрез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2AC7-3D36-4E23-8FDC-51AEF2E379A1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дение БУ для ГРО, в т.ч. по строительств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«газовой» отчет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9530-0413-46F5-908D-4898F551F92D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ается риск ввода некорректных операций, встроенные механизмы контроля не позволяют списать материал, если его нет на складе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каждому разделу учета в 1С предусмотрены основные документы по учету хозяйственны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ующего раздела. Печатные формы этих документов соответствуют формам первичных документов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84AF-3DFB-4023-B3FF-B44CAEED3830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2BB0-98D0-4AE0-AAC2-3BF485237CD4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имере Товарной накладной рассмотрим работу с документами в 1С:Бухгалтерии 7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 имеет печатную форму, вызываемую нажатием кнопки ПЕЧАТЬ. Печатная форма разработана в соответствии с формой ТОРГ-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занесенных данных по отгрузке товара нажатием кнопки «ВВОД НА ОСОВАНИИ» можно создать счет-фактуру выданный. При этом ранее занесенные данные автоматически будут использованы для заполнения счет-фа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такого заполнения между этими документами будет установлена зависимость, которая позволяет быстро определить взаимосвязанные доку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13D3-7F16-4425-958A-D5AD8D3E5250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С:Бухгалтерия включает средства, позволяющие администратору сис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список пользователей сист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начать пользователям пароли на вход в систем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начать пользователям права на доступ к информации, обрабатываемой систем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ть индивидуальные пользовательские интерфейсы, включающие меню и панели инструмен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атривать список работающих пользовател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торию работы пользовате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F26D-477E-4A92-8422-EF7B7EB9C3CB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с Бюро, адрес, телефон, сайт, е-мэй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7B61-4061-446E-9471-1770DB65A6FC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 начислений по газу позволяет организовать учет расчетов с абонентами (население) и потребителями газа (комбыт, промышленность) на участках предприятия и организовать электронный документооборот с автоматической выгрузкой данных в Центральную Бухгалте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C73A-F1FA-4C20-81A6-6202419B20F3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сса и банк (в т.ч. по участка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 и НМА (в т.ч. по подразделения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и материалы (по МОЛ и склада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ы, услуги (в т.ч. по участкам и видам деятельност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 ЦБ (в т.ч. списание по ЛИФО, ФИФО и средне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расчеты с покупателями (взаимозачеты, акты сверки, инвентаризация задолженн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97B5-A92B-4546-8EF0-E8A2AEFC0FC0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формирование регистров НУ и декларации по налогу на приб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ся средства контроля отклонений между НУ и Б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4556-63CC-4CEA-921C-64DE325B0FD6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уровневый план счетов позволяет организовать гибкий учет по субсчет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мерный и многоуровневый учет позволяет вести вести учет одновременно по 5 аналитикам; настройка «иерархичности» справо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A35-B1DC-4164-A352-B3587CF2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677-0139-47D6-B088-0144AD97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FE5-BF43-46BC-986F-3763FC41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55E-5838-41CC-BE4F-FD87E097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D50B-C9CA-40A8-BEED-685AD2A8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84EA-1F11-42B9-904A-C9D7C62A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643E-0BFA-448E-B88A-2DFE6EB2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E55E-AD12-49C9-B8A3-1ECB5388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E127-5944-4A06-B0E5-7C3F27A9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4BB5-1C5C-432B-81D7-71A6EFEA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CF08-0EFA-4F9E-8D14-394513CB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2B6-FA4C-49AD-BEEC-524B5A39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629F-60BD-4EC4-AACF-1D558C1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BC65-745F-4F43-BDEF-75FA1C0A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10B0-DF1B-49AB-8480-81E634CC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6C3A-7A91-473A-AA1D-BB26477B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EE9D-6431-4653-A166-99D4E12E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E84-B849-44D3-94B6-04AA3C2E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15C-4BE3-42E9-BB69-46581827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CE1-2DDA-4D53-A544-B367FD62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7C6-3991-4373-A7DC-CDA4E527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2D0-63F9-46CE-8F7D-EBD7EDD1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4C0-57C2-4D9D-83DC-0AB6D0A3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2A9-8B3B-45B6-BDB2-E3ED873C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6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6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673A-0BAD-4AF5-8361-497B9DA85DB8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57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8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59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6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1564-395E-4B6D-A68B-6C20F3427974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mail@econburo.ru" TargetMode="External"/><Relationship Id="rId3" Type="http://schemas.openxmlformats.org/officeDocument/2006/relationships/hyperlink" Target="http://www.econburo.ru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e9"/>
                </a:solidFill>
                <a:latin typeface="Times New Roman"/>
              </a:rPr>
              <a:t>Программный комплекс </a:t>
            </a:r>
            <a:r>
              <a:rPr b="0" lang="en-US" sz="4000" spc="-1" strike="noStrike">
                <a:solidFill>
                  <a:srgbClr val="ffffe9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e9"/>
                </a:solidFill>
                <a:latin typeface="Times New Roman"/>
              </a:rPr>
              <a:t>на базе 1С для газораспределительных организаци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ООО «Аудиторская фирма «Экономикс бюро»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Настройка программы под собственную учетную политику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295280" y="1981080"/>
          <a:ext cx="6824880" cy="43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8248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евые особенности ведения бухгалтерского учета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ожность ведения раздельного (обособленного) учет по видам деятельности и объектам строительства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ожность разделения затрат по элементам затрат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ьный учет балансового и коммерческого сжиженного газа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ьный учет сетевого газа для населения и предприятий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накладных расходов по видам деятельности и объектам строительства пропорционально выбранной базе рас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Настройка плана счетов в соответствии со спецификой ГР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5"/>
          <p:cNvGraphicFramePr/>
          <p:nvPr/>
        </p:nvGraphicFramePr>
        <p:xfrm>
          <a:off x="380880" y="1981080"/>
          <a:ext cx="8458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458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4"/>
          <p:cNvGraphicFramePr/>
          <p:nvPr/>
        </p:nvGraphicFramePr>
        <p:xfrm>
          <a:off x="4038480" y="2286000"/>
          <a:ext cx="419112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286000"/>
                    <a:ext cx="4191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Статьи затрат разработаны в соответствии с отраслевой специфик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1" name="Object 4"/>
          <p:cNvGraphicFramePr/>
          <p:nvPr/>
        </p:nvGraphicFramePr>
        <p:xfrm>
          <a:off x="609480" y="1828800"/>
          <a:ext cx="8077320" cy="46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77320" cy="46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Организован позаказный учет вспомогательных подразделени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685800" y="1905120"/>
          <a:ext cx="80773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80773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втоматизирован</a:t>
            </a: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ы</a:t>
            </a:r>
            <a:r>
              <a:rPr b="0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следующие функции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расчет сумм, предъявляем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ых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потребителям газа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, на основе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данных об объемах потребления газа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формирование 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и 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распечатка пакета первичных документов для потребителей газа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отчет по услугам сторонних организаций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расчет пени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настройка выгрузки данных в программу финансового планирования 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(в т.ч. 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Инталев: Корпоративные финансы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для ведения бюджетирования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Получение финансового результата по каждому виду деятельност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642960" y="1981080"/>
          <a:ext cx="827244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981080"/>
                    <a:ext cx="82724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полнение форм 6-ГЖ, 6-ГС</a:t>
            </a: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 и приложений к расчету тарифов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3"/>
          <p:cNvGraphicFramePr/>
          <p:nvPr/>
        </p:nvGraphicFramePr>
        <p:xfrm>
          <a:off x="1371600" y="2057400"/>
          <a:ext cx="670572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70572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5"/>
          <p:cNvGraphicFramePr/>
          <p:nvPr/>
        </p:nvGraphicFramePr>
        <p:xfrm>
          <a:off x="1295280" y="1752480"/>
          <a:ext cx="7010640" cy="465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752480"/>
                    <a:ext cx="70106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27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Ф</a:t>
            </a: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рмирование актов сверки расчетов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7" name="Object 0"/>
          <p:cNvGraphicFramePr/>
          <p:nvPr/>
        </p:nvGraphicFramePr>
        <p:xfrm>
          <a:off x="1676520" y="1676520"/>
          <a:ext cx="556236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56236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Ф</a:t>
            </a: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рмирование отчета по категориям льго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0" name="Object 0"/>
          <p:cNvGraphicFramePr/>
          <p:nvPr/>
        </p:nvGraphicFramePr>
        <p:xfrm>
          <a:off x="457200" y="1981080"/>
          <a:ext cx="83059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3059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Основные возможности программ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ведение бухгалтерского и налогового учета для газораспределительных организаций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ГРО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ведение аналитического учета статей затрат с использованием отраслевой специфики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ведение аналитического учета поставки газа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формирование отчетных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форм для сдачи налоговые органы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формирование отчетности в соответствии с отраслевой спецификой ГРО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Р</a:t>
            </a: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счет резерва по сомнительным долгам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762120" y="1981080"/>
          <a:ext cx="7621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621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Расчеты с потребителями газ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Программа находится на участках предприятия и в управляющем подразделении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Информация от участков в централизованную программу передается в электронном виде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На основе данных об объемах потребления газа проводится расчет сумм, выставляемых в первичных документах потребителям газа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Возможность формирования отчетов для заполнения отраслевых форм отчетности (22-ЖК, 1-ПС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Формирование отчетов для заполнения отраслевых форм отчетност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1143000" y="1676520"/>
          <a:ext cx="7162920" cy="47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162920" cy="47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Object 1029"/>
          <p:cNvGraphicFramePr/>
          <p:nvPr/>
        </p:nvGraphicFramePr>
        <p:xfrm>
          <a:off x="1219320" y="1905120"/>
          <a:ext cx="73152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315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личные варианты 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зяйственных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04920" y="3200400"/>
            <a:ext cx="2638440" cy="3076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Wingdings"/>
                <a:ea typeface="Wingdings"/>
              </a:rPr>
              <a:t></a:t>
            </a: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 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возможность простого ввода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произвольных проводок</a:t>
            </a: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,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Д</a:t>
            </a: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ля избежания занесения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некорректных корреспонденций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счетов в проводках в</a:t>
            </a: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программе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предусмотрен список коррек</a:t>
            </a: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т</a:t>
            </a: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ных</a:t>
            </a: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проводок, позволяющий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пользователю просматривать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счета,</a:t>
            </a: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корреспондирующие с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выбранным счетом.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Этот список также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корректируется пользователем.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3200400" y="3200400"/>
            <a:ext cx="2638440" cy="3076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Wingdings"/>
                <a:ea typeface="Wingdings"/>
              </a:rPr>
              <a:t>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 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возможность автоматизи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ровать рутинные часто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повторяющиеся операции,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Wingdings"/>
                <a:ea typeface="Wingdings"/>
              </a:rPr>
              <a:t>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 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вручную заводится только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часть данных, как правило,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объекты аналитики и суммы,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Wingdings"/>
                <a:ea typeface="Wingdings"/>
              </a:rPr>
              <a:t>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 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облегчение ввода и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уменьшение вероятности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ошибки.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095880" y="3200400"/>
            <a:ext cx="2743200" cy="3076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Wingdings"/>
                <a:ea typeface="Wingdings"/>
              </a:rPr>
              <a:t>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максимальный контроль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ввода данных программой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Wingdings"/>
                <a:ea typeface="Wingdings"/>
              </a:rPr>
              <a:t>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возможность получения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печатной формы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Wingdings"/>
                <a:ea typeface="Wingdings"/>
              </a:rPr>
              <a:t>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автоматическое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формирование проводок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Wingdings"/>
                <a:ea typeface="Wingdings"/>
              </a:rPr>
              <a:t>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использование свойств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объекта учета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Wingdings"/>
                <a:ea typeface="Wingdings"/>
              </a:rPr>
              <a:t>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автоматический расчет сумм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проводок (</a:t>
            </a:r>
            <a:r>
              <a:rPr b="1" lang="en-US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IFO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, средн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</a:rPr>
              <a:t>яя цена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);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Wingdings"/>
                <a:ea typeface="Wingdings"/>
              </a:rPr>
              <a:t>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на основании документов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можно вводить другие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документы, упростив тем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самым их заполнение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57200" y="205740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ffffe9">
              <a:alpha val="50000"/>
            </a:srgbClr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ручную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429000" y="205740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ffffe9">
              <a:alpha val="50000"/>
            </a:srgbClr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С помощью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типовой операции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6324480" y="205740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ffffe9">
              <a:alpha val="50000"/>
            </a:srgbClr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С помощью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документа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1371600" y="2743200"/>
            <a:ext cx="258840" cy="457200"/>
          </a:xfrm>
          <a:prstGeom prst="downArrow">
            <a:avLst>
              <a:gd name="adj1" fmla="val 50000"/>
              <a:gd name="adj2" fmla="val 44159"/>
            </a:avLst>
          </a:prstGeom>
          <a:gradFill rotWithShape="0">
            <a:gsLst>
              <a:gs pos="0">
                <a:srgbClr val="ccffcc"/>
              </a:gs>
              <a:gs pos="100000">
                <a:srgbClr val="ffffe9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1" name="AutoShape 18"/>
          <p:cNvSpPr/>
          <p:nvPr/>
        </p:nvSpPr>
        <p:spPr>
          <a:xfrm>
            <a:off x="4389480" y="2743200"/>
            <a:ext cx="258840" cy="457200"/>
          </a:xfrm>
          <a:prstGeom prst="downArrow">
            <a:avLst>
              <a:gd name="adj1" fmla="val 50000"/>
              <a:gd name="adj2" fmla="val 44159"/>
            </a:avLst>
          </a:prstGeom>
          <a:gradFill rotWithShape="0">
            <a:gsLst>
              <a:gs pos="0">
                <a:srgbClr val="ccffcc"/>
              </a:gs>
              <a:gs pos="100000">
                <a:srgbClr val="ffffe9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AutoShape 19"/>
          <p:cNvSpPr/>
          <p:nvPr/>
        </p:nvSpPr>
        <p:spPr>
          <a:xfrm>
            <a:off x="7238880" y="2743200"/>
            <a:ext cx="258840" cy="457200"/>
          </a:xfrm>
          <a:prstGeom prst="downArrow">
            <a:avLst>
              <a:gd name="adj1" fmla="val 50000"/>
              <a:gd name="adj2" fmla="val 44159"/>
            </a:avLst>
          </a:prstGeom>
          <a:gradFill rotWithShape="0">
            <a:gsLst>
              <a:gs pos="0">
                <a:srgbClr val="ccffcc"/>
              </a:gs>
              <a:gs pos="100000">
                <a:srgbClr val="ffffe9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Возможность ввода данных «от документа»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27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Большая часть хозяйственных операций отражается в 1С:Бухгалтерии документами.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272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Средства работы с документами позволяют организовать ввод документов, их произвольное распределение по журналам и поиск любого документа по различным критериям</a:t>
            </a:r>
            <a:r>
              <a:rPr b="0" lang="ru-RU" sz="2200" spc="-1" strike="noStrike">
                <a:solidFill>
                  <a:srgbClr val="00264c"/>
                </a:solidFill>
                <a:latin typeface="Times New Roman"/>
              </a:rPr>
              <a:t> (</a:t>
            </a:r>
            <a:r>
              <a:rPr b="0" lang="ru-RU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номеру, дате, сумме, контрагенту</a:t>
            </a:r>
            <a:r>
              <a:rPr b="0" lang="ru-RU" sz="2200" spc="-1" strike="noStrike">
                <a:solidFill>
                  <a:srgbClr val="00264c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272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4c"/>
                </a:solidFill>
                <a:latin typeface="Times New Roman"/>
              </a:rPr>
              <a:t>Это снижает риск ввода некорректных операций,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272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64c"/>
                </a:solidFill>
                <a:latin typeface="Times New Roman"/>
              </a:rPr>
              <a:t>По каждому разделу учета в 1С предусмотрены основные документы по учету хозяйственных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264c"/>
                </a:solidFill>
                <a:latin typeface="Times New Roman"/>
              </a:rPr>
              <a:t>операций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264c"/>
                </a:solidFill>
                <a:latin typeface="Times New Roman"/>
              </a:rPr>
              <a:t>соответствующего раздела. Печатные формы этих документов соответствуют формам первичных документов бухгалтерского учета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Используемые  в программе документ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1881360"/>
          <a:ext cx="7772400" cy="4205160"/>
        </p:xfrm>
        <a:graphic>
          <a:graphicData uri="http://schemas.openxmlformats.org/drawingml/2006/table">
            <a:tbl>
              <a:tblPr/>
              <a:tblGrid>
                <a:gridCol w="2057400"/>
                <a:gridCol w="571500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Учет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операций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о кассе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риходный кассовый ордер (КО-1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Расходный кассовый ордер (КО-2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Авансовый отчет (АО-1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Учет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операций по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банку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Платежное поручение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Платежное требование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Аккредитив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Инкассовое поручение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Выписка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Используемые  в программе документ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143080"/>
          <a:ext cx="7924680" cy="4029120"/>
        </p:xfrm>
        <a:graphic>
          <a:graphicData uri="http://schemas.openxmlformats.org/drawingml/2006/table">
            <a:tbl>
              <a:tblPr/>
              <a:tblGrid>
                <a:gridCol w="1165320"/>
                <a:gridCol w="6759360"/>
              </a:tblGrid>
              <a:tr h="5205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Учет 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ОС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Акт о приеме-передаче объекта ОС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(ОС-1)</a:t>
                      </a: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Акт о приеме-передаче оборудования в монтаж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(ОС-15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Акт о поступлении оборудования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(ОС-14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Поступление ОС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Накладная на внутренне перемещение объектов ОС 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ОС-2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300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Акт о списании объекта ОС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(ОС-4)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Используемые  в программе документ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62120" y="2133720"/>
          <a:ext cx="7924680" cy="3935160"/>
        </p:xfrm>
        <a:graphic>
          <a:graphicData uri="http://schemas.openxmlformats.org/drawingml/2006/table">
            <a:tbl>
              <a:tblPr/>
              <a:tblGrid>
                <a:gridCol w="2019240"/>
                <a:gridCol w="5905440"/>
              </a:tblGrid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Учет материалов</a:t>
                      </a: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Приходный ордер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(М-4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Требование-накладная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(М-11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Накладная на отпуск материалов на сторону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(М-15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Накладная на передачу готовой продукции в места хранения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(МХ-18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24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Акт на списание МБП</a:t>
                      </a: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МБ-8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Используемые  в программе документ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6212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5205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Учет товаров, реализации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Товарная накладная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(ТОРГ-12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Поступление товаров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Накладная на внутреннее перемещение</a:t>
                      </a: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(ТОРГ-13)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Акт об оказании услуг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Акт на выполнение этапа работ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24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Акт о завершении работ 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Преимущества программного продукт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Программа адаптирована к специфике учета в ГРО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Возможность гибкой донастройки программы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Оперативное обновление программы и форм отчетности в связи с изменением законодательства РФ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Удобный пользовательский интерфейс и простота в освоении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Совместимость с программами семейства 1С (Зарплата и Кадры, Бюджетное управление и т.д.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Лидер рынка бухгалтерских программных продуктов в среде малого и среднего бизнеса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Приемлемая стоимость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Работа с документам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1219320" y="1752480"/>
          <a:ext cx="68371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8371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1219320" y="1752480"/>
          <a:ext cx="6837120" cy="46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752480"/>
                    <a:ext cx="68371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2"/>
          <p:cNvGraphicFramePr/>
          <p:nvPr/>
        </p:nvGraphicFramePr>
        <p:xfrm>
          <a:off x="1219320" y="2286000"/>
          <a:ext cx="6858000" cy="36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286000"/>
                    <a:ext cx="68580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6"/>
          <p:cNvGraphicFramePr/>
          <p:nvPr/>
        </p:nvGraphicFramePr>
        <p:xfrm>
          <a:off x="1219320" y="1752480"/>
          <a:ext cx="6837120" cy="464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1752480"/>
                    <a:ext cx="68371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8"/>
          <p:cNvGraphicFramePr/>
          <p:nvPr/>
        </p:nvGraphicFramePr>
        <p:xfrm>
          <a:off x="1219320" y="1752480"/>
          <a:ext cx="6837120" cy="467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1752480"/>
                    <a:ext cx="68371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1"/>
          <p:cNvGraphicFramePr/>
          <p:nvPr/>
        </p:nvGraphicFramePr>
        <p:xfrm>
          <a:off x="1219320" y="1752480"/>
          <a:ext cx="6858000" cy="507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1752480"/>
                    <a:ext cx="685800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9"/>
          <p:cNvGraphicFramePr/>
          <p:nvPr/>
        </p:nvGraphicFramePr>
        <p:xfrm>
          <a:off x="3657600" y="3200400"/>
          <a:ext cx="4238640" cy="175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57600" y="3200400"/>
                    <a:ext cx="42386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Приходный кассовый ордер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838080" y="2209680"/>
          <a:ext cx="7466040" cy="43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46604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"/>
          <p:cNvGraphicFramePr/>
          <p:nvPr/>
        </p:nvGraphicFramePr>
        <p:xfrm>
          <a:off x="1460520" y="1905120"/>
          <a:ext cx="622152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0520" y="1905120"/>
                    <a:ext cx="62215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9"/>
                </a:solidFill>
                <a:latin typeface="Times New Roman"/>
              </a:rPr>
              <a:t>Разнообразные отчеты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09480" y="37465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С:Бухгалтерия включает набор стандартных отчетов, позволяющих получить информацию за произвольный период, в различных разрезах и с необходимой степенью детализации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С:Бухгалтерия включает набор различных отче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2895480"/>
            <a:ext cx="2895480" cy="2362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Бухгалтерские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проводки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6858000" y="2057400"/>
            <a:ext cx="1979640" cy="1800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8c0b2"/>
              </a:gs>
              <a:gs pos="50000">
                <a:srgbClr val="ffffe9"/>
              </a:gs>
              <a:gs pos="100000">
                <a:srgbClr val="78c0b2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по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ам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6858000" y="4417920"/>
            <a:ext cx="1979640" cy="1800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8c0b2"/>
              </a:gs>
              <a:gs pos="50000">
                <a:srgbClr val="ffffe9"/>
              </a:gs>
              <a:gs pos="100000">
                <a:srgbClr val="78c0b2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и-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анная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609480" y="2057400"/>
            <a:ext cx="1979640" cy="1800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8c0b2"/>
              </a:gs>
              <a:gs pos="50000">
                <a:srgbClr val="ffffe9"/>
              </a:gs>
              <a:gs pos="100000">
                <a:srgbClr val="78c0b2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по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му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у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609480" y="4417920"/>
            <a:ext cx="1979640" cy="1800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8c0b2"/>
              </a:gs>
              <a:gs pos="50000">
                <a:srgbClr val="ffffe9"/>
              </a:gs>
              <a:gs pos="100000">
                <a:srgbClr val="78c0b2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по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ческому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у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5715000" y="2286000"/>
            <a:ext cx="990720" cy="609480"/>
          </a:xfrm>
          <a:prstGeom prst="pie">
            <a:avLst/>
          </a:prstGeom>
          <a:gradFill rotWithShape="0">
            <a:gsLst>
              <a:gs pos="0">
                <a:srgbClr val="00264c"/>
              </a:gs>
              <a:gs pos="100000">
                <a:srgbClr val="78c0b2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2" name="AutoShape 11"/>
          <p:cNvSpPr/>
          <p:nvPr/>
        </p:nvSpPr>
        <p:spPr>
          <a:xfrm rot="10800000">
            <a:off x="2743200" y="5257440"/>
            <a:ext cx="990720" cy="609480"/>
          </a:xfrm>
          <a:prstGeom prst="pie">
            <a:avLst/>
          </a:prstGeom>
          <a:gradFill rotWithShape="0">
            <a:gsLst>
              <a:gs pos="0">
                <a:srgbClr val="78c0b2"/>
              </a:gs>
              <a:gs pos="100000">
                <a:srgbClr val="00264c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3" name="AutoShape 15"/>
          <p:cNvSpPr/>
          <p:nvPr/>
        </p:nvSpPr>
        <p:spPr>
          <a:xfrm flipV="1" rot="10800000">
            <a:off x="2743200" y="2284920"/>
            <a:ext cx="990720" cy="609480"/>
          </a:xfrm>
          <a:prstGeom prst="pie">
            <a:avLst/>
          </a:prstGeom>
          <a:gradFill rotWithShape="0">
            <a:gsLst>
              <a:gs pos="0">
                <a:srgbClr val="00264c"/>
              </a:gs>
              <a:gs pos="100000">
                <a:srgbClr val="78c0b2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4" name="AutoShape 16"/>
          <p:cNvSpPr/>
          <p:nvPr/>
        </p:nvSpPr>
        <p:spPr>
          <a:xfrm flipV="1">
            <a:off x="5715000" y="5257080"/>
            <a:ext cx="990720" cy="609480"/>
          </a:xfrm>
          <a:prstGeom prst="pie">
            <a:avLst/>
          </a:prstGeom>
          <a:gradFill rotWithShape="0">
            <a:gsLst>
              <a:gs pos="0">
                <a:srgbClr val="78c0b2"/>
              </a:gs>
              <a:gs pos="100000">
                <a:srgbClr val="00264c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по синтетическому учету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ротно-сальдовая ведомость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ахматная ведомость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ная книга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урнал-ордер и ведомость по счету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счета за период и по датам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счета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по аналитическому учету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ротно-сальдовая ведомость по счету в разрезе объектов аналитического учета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урнал-ордер в разрезе объектов аналитики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счета в разрезе объектов аналитики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"Диаграмма" позволяет представить бухгалтерскую информацию в графическом виде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тчеты по разделам учета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объекта аналитики по счетам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очка операций по объекту аналитики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ссовая книга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и продаж и покупок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книга учета ценных бумаг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еты по ОС и НМА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по заработной плате и т.д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регламентированной отчетности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, заполнение и печать бухгалтерской, налоговой и статистической отчетности, а также отчетов в фонды производится в автоматическом и ручном режимах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жиме программа заполняет отчеты на основании введенных за период хозяйственных операций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режиме заполнения отчетов пользователь вводит основные показатели, а программа рассчитывает все итоговые и производные показатели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Формы отчетности 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ежеквартально обновляются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фирмой "1С" и 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бесплатно предоставляются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зарегистрированным пользователям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Список автоматически заполняемых форм отчетност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хгалтерский баланс (форма 1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чет о прибылях и убытках (форма 2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чет об изменении капитала (форма 3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чет о движении денежных средств (форма 4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ложение к балансу (форма 5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чет чистых активо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 на имущество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 на прибыль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рочие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озможность формирования электронного варианта отчетности для сдачи в ИМН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1600200" y="1905120"/>
          <a:ext cx="45720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45720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Times New Roman"/>
              </a:rPr>
              <a:t>Программный комплекс состоит из взаимосвязанных модуле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685800" y="4267080"/>
            <a:ext cx="2104920" cy="228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Расчеты с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абонентами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6095880" y="1676520"/>
            <a:ext cx="2105280" cy="228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1С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Бухгалтерия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267080" y="4267080"/>
            <a:ext cx="2105280" cy="228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Расчеты с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потребителями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газа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2286000" y="1676520"/>
            <a:ext cx="2104920" cy="228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1С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Зарплата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и Кадры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3048120" y="5181480"/>
            <a:ext cx="990360" cy="630360"/>
          </a:xfrm>
          <a:prstGeom prst="rightArrow">
            <a:avLst>
              <a:gd name="adj1" fmla="val 50000"/>
              <a:gd name="adj2" fmla="val 39278"/>
            </a:avLst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6629400" y="4648320"/>
            <a:ext cx="988920" cy="988920"/>
          </a:xfrm>
          <a:prstGeom prst="pie">
            <a:avLst/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4724280" y="2666880"/>
            <a:ext cx="990720" cy="630360"/>
          </a:xfrm>
          <a:prstGeom prst="rightArrow">
            <a:avLst>
              <a:gd name="adj1" fmla="val 50000"/>
              <a:gd name="adj2" fmla="val 39292"/>
            </a:avLst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Возможность использования технологии «Клиент-банк» и «Интернет-банк»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1447920" y="1752480"/>
          <a:ext cx="60958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0958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93320" y="283680"/>
            <a:ext cx="7821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Использование р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звит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средств администриров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(права доступа, интерфейсы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2" name="Object 0"/>
          <p:cNvGraphicFramePr/>
          <p:nvPr/>
        </p:nvGraphicFramePr>
        <p:xfrm>
          <a:off x="762120" y="1905120"/>
          <a:ext cx="807696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807696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"/>
          <p:cNvGraphicFramePr/>
          <p:nvPr/>
        </p:nvGraphicFramePr>
        <p:xfrm>
          <a:off x="4038480" y="3657600"/>
          <a:ext cx="4753080" cy="25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3657600"/>
                    <a:ext cx="475308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9"/>
                </a:solidFill>
                <a:latin typeface="Times New Roman"/>
              </a:rPr>
              <a:t>Спасибо за внимание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62120" y="3504960"/>
            <a:ext cx="769608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Разработчик: ООО «Аудиторская фирма «Экономикс бюро»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Адрес: ул. Луначарского, 31, 803а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Телефон: (343)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55-42-92, 355-14-37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-mail: </a:t>
            </a:r>
            <a:r>
              <a:rPr b="0" lang="en-US" sz="2400" spc="-1" strike="noStrike" u="sng">
                <a:solidFill>
                  <a:srgbClr val="598bbd"/>
                </a:solidFill>
                <a:uFillTx/>
                <a:latin typeface="Times New Roman"/>
                <a:hlinkClick r:id="rId2"/>
              </a:rPr>
              <a:t>mail@econburo.ru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http: </a:t>
            </a:r>
            <a:r>
              <a:rPr b="0" lang="en-US" sz="2400" spc="-1" strike="noStrike" u="sng">
                <a:solidFill>
                  <a:srgbClr val="598bbd"/>
                </a:solidFill>
                <a:uFillTx/>
                <a:latin typeface="Times New Roman"/>
                <a:hlinkClick r:id="rId3"/>
              </a:rPr>
              <a:t>www.econburo.ru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9"/>
          <p:cNvSpPr/>
          <p:nvPr/>
        </p:nvSpPr>
        <p:spPr>
          <a:xfrm>
            <a:off x="4572000" y="2362320"/>
            <a:ext cx="4314960" cy="409896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82440" y="2362320"/>
            <a:ext cx="4316400" cy="410040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33"/>
                </a:solidFill>
                <a:latin typeface="Times New Roman"/>
              </a:rPr>
              <a:t>Комплекс по учету начислений за газ позволяет организовать электронный документооборот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304920" y="2514600"/>
            <a:ext cx="1800000" cy="1440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Расчеты с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абонентами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6705720" y="2438280"/>
            <a:ext cx="1800000" cy="1440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Расчеты с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отребителями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газа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5486400" y="4876920"/>
            <a:ext cx="1800360" cy="143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1С: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Бухгалтерия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2438280" y="3970440"/>
            <a:ext cx="1800360" cy="143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64c"/>
              </a:gs>
              <a:gs pos="50000">
                <a:srgbClr val="ffffe9"/>
              </a:gs>
              <a:gs pos="100000">
                <a:srgbClr val="00264c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Расчеты с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отребителями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газа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3352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533520" y="1905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Участки предприятия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029200" y="1905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Аппарат управления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23" name="AutoShape 14"/>
          <p:cNvCxnSpPr>
            <a:stCxn id="116" idx="3"/>
          </p:cNvCxnSpPr>
          <p:nvPr/>
        </p:nvCxnSpPr>
        <p:spPr>
          <a:xfrm flipH="1" rot="16200000">
            <a:off x="1380240" y="3778560"/>
            <a:ext cx="897480" cy="1248480"/>
          </a:xfrm>
          <a:prstGeom prst="bentConnector2">
            <a:avLst/>
          </a:prstGeom>
          <a:ln w="19080">
            <a:solidFill>
              <a:srgbClr val="00264c"/>
            </a:solidFill>
            <a:miter/>
            <a:tailEnd len="med" type="triangle" w="med"/>
          </a:ln>
        </p:spPr>
      </p:cxnSp>
      <p:sp>
        <p:nvSpPr>
          <p:cNvPr id="124" name="Text Box 15"/>
          <p:cNvSpPr/>
          <p:nvPr/>
        </p:nvSpPr>
        <p:spPr>
          <a:xfrm>
            <a:off x="304920" y="47242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03320" y="4248000"/>
            <a:ext cx="1523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4c"/>
                </a:solidFill>
                <a:latin typeface="Times New Roman"/>
              </a:rPr>
              <a:t>Данные по объему потребления газа и суммам к оплате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2286000" y="33051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4c"/>
                </a:solidFill>
                <a:latin typeface="Times New Roman"/>
              </a:rPr>
              <a:t>Лимиты потребления газа (квартал, месяц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981080" y="5535720"/>
            <a:ext cx="1981440" cy="824040"/>
          </a:xfrm>
          <a:prstGeom prst="rect">
            <a:avLst/>
          </a:pr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4c"/>
                </a:solidFill>
                <a:latin typeface="Times New Roman"/>
              </a:rPr>
              <a:t>Фактическое потребление газа (месяц, сутки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28" name="AutoShape 21"/>
          <p:cNvCxnSpPr>
            <a:stCxn id="117" idx="3"/>
            <a:endCxn id="119" idx="2"/>
          </p:cNvCxnSpPr>
          <p:nvPr/>
        </p:nvCxnSpPr>
        <p:spPr>
          <a:xfrm rot="5400000">
            <a:off x="4614840" y="1701000"/>
            <a:ext cx="813600" cy="5168160"/>
          </a:xfrm>
          <a:prstGeom prst="bentConnector4">
            <a:avLst>
              <a:gd name="adj1" fmla="val 5621"/>
              <a:gd name="adj2" fmla="val 104423"/>
            </a:avLst>
          </a:prstGeom>
          <a:ln w="9360">
            <a:solidFill>
              <a:srgbClr val="00264c"/>
            </a:solidFill>
            <a:miter/>
            <a:tailEnd len="med" type="triangle" w="med"/>
          </a:ln>
        </p:spPr>
      </p:cxnSp>
      <p:cxnSp>
        <p:nvCxnSpPr>
          <p:cNvPr id="129" name="AutoShape 23"/>
          <p:cNvCxnSpPr/>
          <p:nvPr/>
        </p:nvCxnSpPr>
        <p:spPr>
          <a:xfrm flipV="1">
            <a:off x="4266720" y="3199680"/>
            <a:ext cx="2467800" cy="1532520"/>
          </a:xfrm>
          <a:prstGeom prst="bentConnector3">
            <a:avLst>
              <a:gd name="adj1" fmla="val 50000"/>
            </a:avLst>
          </a:prstGeom>
          <a:ln w="9360">
            <a:solidFill>
              <a:srgbClr val="00264c"/>
            </a:solidFill>
            <a:miter/>
            <a:tailEnd len="med" type="triangle" w="med"/>
          </a:ln>
        </p:spPr>
      </p:cxnSp>
      <p:sp>
        <p:nvSpPr>
          <p:cNvPr id="130" name="Text Box 25"/>
          <p:cNvSpPr/>
          <p:nvPr/>
        </p:nvSpPr>
        <p:spPr>
          <a:xfrm>
            <a:off x="4800600" y="24382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4c"/>
                </a:solidFill>
                <a:latin typeface="Times New Roman"/>
              </a:rPr>
              <a:t>Данные по реализации газа на участке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31" name="AutoShape 26"/>
          <p:cNvCxnSpPr/>
          <p:nvPr/>
        </p:nvCxnSpPr>
        <p:spPr>
          <a:xfrm rot="5400000">
            <a:off x="6586920" y="3776040"/>
            <a:ext cx="999000" cy="1219680"/>
          </a:xfrm>
          <a:prstGeom prst="bentConnector3">
            <a:avLst>
              <a:gd name="adj1" fmla="val 49927"/>
            </a:avLst>
          </a:prstGeom>
          <a:ln w="9360">
            <a:solidFill>
              <a:srgbClr val="00264c"/>
            </a:solidFill>
            <a:miter/>
            <a:tailEnd len="med" type="triangle" w="med"/>
          </a:ln>
        </p:spPr>
      </p:cxnSp>
      <p:sp>
        <p:nvSpPr>
          <p:cNvPr id="132" name="Text Box 27"/>
          <p:cNvSpPr/>
          <p:nvPr/>
        </p:nvSpPr>
        <p:spPr>
          <a:xfrm>
            <a:off x="7238880" y="44197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64c"/>
                </a:solidFill>
                <a:latin typeface="Times New Roman"/>
              </a:rPr>
              <a:t>Первичные документы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33" name="AutoShape 29"/>
          <p:cNvCxnSpPr>
            <a:stCxn id="127" idx="2"/>
          </p:cNvCxnSpPr>
          <p:nvPr/>
        </p:nvCxnSpPr>
        <p:spPr>
          <a:xfrm flipV="1" rot="16200000">
            <a:off x="2016360" y="5415120"/>
            <a:ext cx="1362600" cy="548280"/>
          </a:xfrm>
          <a:prstGeom prst="bentConnector5">
            <a:avLst>
              <a:gd name="adj1" fmla="val -16781"/>
              <a:gd name="adj2" fmla="val 222601"/>
              <a:gd name="adj3" fmla="val 101955"/>
            </a:avLst>
          </a:prstGeom>
          <a:ln w="9360">
            <a:solidFill>
              <a:srgbClr val="00264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С:Бухгалтерии автоматизировано ведение всех раздело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галтерского учета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ции по банку и кассе (в разрезе участков) 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средства и нематериальные активы (возможны использование любого метода начисления амортизации)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вары и материалы (учет по МОЛ и складам)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ение работ, оказание услу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участкам, видам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расчеты с покупателями (взаимозачеты, акты сверки, инвентаризация задолженности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т ценных бумаг (различные способы списания)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ругие разделы учета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0"/>
          <p:cNvSpPr/>
          <p:nvPr/>
        </p:nvSpPr>
        <p:spPr>
          <a:xfrm rot="10800000">
            <a:off x="5410080" y="2666520"/>
            <a:ext cx="457200" cy="838440"/>
          </a:xfrm>
          <a:prstGeom prst="upArrow">
            <a:avLst>
              <a:gd name="adj1" fmla="val 50000"/>
              <a:gd name="adj2" fmla="val 45846"/>
            </a:avLst>
          </a:prstGeom>
          <a:gradFill rotWithShape="0">
            <a:gsLst>
              <a:gs pos="0">
                <a:srgbClr val="ffff00"/>
              </a:gs>
              <a:gs pos="100000">
                <a:srgbClr val="99ccff">
                  <a:alpha val="50196"/>
                </a:srgbClr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5410080" y="4495680"/>
            <a:ext cx="457200" cy="838440"/>
          </a:xfrm>
          <a:prstGeom prst="upArrow">
            <a:avLst>
              <a:gd name="adj1" fmla="val 50000"/>
              <a:gd name="adj2" fmla="val 45846"/>
            </a:avLst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3276720" y="4495680"/>
            <a:ext cx="457200" cy="838440"/>
          </a:xfrm>
          <a:prstGeom prst="upArrow">
            <a:avLst>
              <a:gd name="adj1" fmla="val 50000"/>
              <a:gd name="adj2" fmla="val 45846"/>
            </a:avLst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AutoShape 19"/>
          <p:cNvSpPr/>
          <p:nvPr/>
        </p:nvSpPr>
        <p:spPr>
          <a:xfrm rot="10800000">
            <a:off x="3276720" y="2666520"/>
            <a:ext cx="457200" cy="838440"/>
          </a:xfrm>
          <a:prstGeom prst="upArrow">
            <a:avLst>
              <a:gd name="adj1" fmla="val 50000"/>
              <a:gd name="adj2" fmla="val 45846"/>
            </a:avLst>
          </a:prstGeom>
          <a:gradFill rotWithShape="0">
            <a:gsLst>
              <a:gs pos="0">
                <a:srgbClr val="ffff00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AutoShape 21"/>
          <p:cNvSpPr/>
          <p:nvPr/>
        </p:nvSpPr>
        <p:spPr>
          <a:xfrm rot="13500000">
            <a:off x="6396120" y="2585520"/>
            <a:ext cx="457200" cy="1076400"/>
          </a:xfrm>
          <a:prstGeom prst="upArrow">
            <a:avLst>
              <a:gd name="adj1" fmla="val 50000"/>
              <a:gd name="adj2" fmla="val 58858"/>
            </a:avLst>
          </a:prstGeom>
          <a:gradFill rotWithShape="0">
            <a:gsLst>
              <a:gs pos="0">
                <a:srgbClr val="ffff00"/>
              </a:gs>
              <a:gs pos="100000">
                <a:srgbClr val="99ccff">
                  <a:alpha val="50196"/>
                </a:srgbClr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AutoShape 18"/>
          <p:cNvSpPr/>
          <p:nvPr/>
        </p:nvSpPr>
        <p:spPr>
          <a:xfrm rot="2700000">
            <a:off x="2290320" y="4338720"/>
            <a:ext cx="457200" cy="1076400"/>
          </a:xfrm>
          <a:prstGeom prst="upArrow">
            <a:avLst>
              <a:gd name="adj1" fmla="val 50000"/>
              <a:gd name="adj2" fmla="val 58858"/>
            </a:avLst>
          </a:prstGeom>
          <a:gradFill rotWithShape="0">
            <a:gsLst>
              <a:gs pos="0">
                <a:srgbClr val="99cc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AutoShape 22"/>
          <p:cNvSpPr/>
          <p:nvPr/>
        </p:nvSpPr>
        <p:spPr>
          <a:xfrm rot="8100000">
            <a:off x="2250720" y="2513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gradFill rotWithShape="0">
            <a:gsLst>
              <a:gs pos="0">
                <a:srgbClr val="ffff00"/>
              </a:gs>
              <a:gs pos="100000">
                <a:srgbClr val="99ccff">
                  <a:alpha val="50196"/>
                </a:srgbClr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матизировано ведение всех раздел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хгалтерского учет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55760" y="1903320"/>
            <a:ext cx="18288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adcf0"/>
              </a:gs>
              <a:gs pos="50000">
                <a:srgbClr val="ffffff"/>
              </a:gs>
              <a:gs pos="100000">
                <a:srgbClr val="7adcf0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64c"/>
                </a:solidFill>
                <a:latin typeface="Times New Roman"/>
              </a:rPr>
              <a:t>Учет операций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64c"/>
                </a:solidFill>
                <a:latin typeface="Times New Roman"/>
              </a:rPr>
              <a:t>по кассе 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895480" y="3505320"/>
            <a:ext cx="3429000" cy="9903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27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1С:Бухгалтерия 7.7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18900000">
            <a:off x="6477120" y="4343400"/>
            <a:ext cx="457200" cy="1076400"/>
          </a:xfrm>
          <a:prstGeom prst="upArrow">
            <a:avLst>
              <a:gd name="adj1" fmla="val 50000"/>
              <a:gd name="adj2" fmla="val 58858"/>
            </a:avLst>
          </a:prstGeom>
          <a:gradFill rotWithShape="0">
            <a:gsLst>
              <a:gs pos="0">
                <a:srgbClr val="99ccff">
                  <a:alpha val="50196"/>
                </a:srgbClr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47" name="AutoShape 7"/>
          <p:cNvGrpSpPr/>
          <p:nvPr/>
        </p:nvGrpSpPr>
        <p:grpSpPr>
          <a:xfrm>
            <a:off x="2577960" y="1889280"/>
            <a:ext cx="1854360" cy="866520"/>
            <a:chOff x="2577960" y="1889280"/>
            <a:chExt cx="1854360" cy="866520"/>
          </a:xfrm>
        </p:grpSpPr>
        <p:pic>
          <p:nvPicPr>
            <p:cNvPr id="148" name="AutoShape 7" descr=""/>
            <p:cNvPicPr/>
            <p:nvPr/>
          </p:nvPicPr>
          <p:blipFill>
            <a:blip r:embed="rId1"/>
            <a:stretch/>
          </p:blipFill>
          <p:spPr>
            <a:xfrm>
              <a:off x="2577960" y="1889280"/>
              <a:ext cx="185436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631960" y="1944720"/>
              <a:ext cx="1746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Учет операций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по расчетному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счету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50" name="AutoShape 8"/>
          <p:cNvGrpSpPr/>
          <p:nvPr/>
        </p:nvGrpSpPr>
        <p:grpSpPr>
          <a:xfrm>
            <a:off x="4711680" y="1889280"/>
            <a:ext cx="1854360" cy="866520"/>
            <a:chOff x="4711680" y="1889280"/>
            <a:chExt cx="1854360" cy="866520"/>
          </a:xfrm>
        </p:grpSpPr>
        <p:pic>
          <p:nvPicPr>
            <p:cNvPr id="151" name="AutoShape 8" descr=""/>
            <p:cNvPicPr/>
            <p:nvPr/>
          </p:nvPicPr>
          <p:blipFill>
            <a:blip r:embed="rId2"/>
            <a:stretch/>
          </p:blipFill>
          <p:spPr>
            <a:xfrm>
              <a:off x="4711680" y="1889280"/>
              <a:ext cx="185436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765680" y="1944720"/>
              <a:ext cx="1746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Учет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основных средств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53" name="AutoShape 9"/>
          <p:cNvGrpSpPr/>
          <p:nvPr/>
        </p:nvGrpSpPr>
        <p:grpSpPr>
          <a:xfrm>
            <a:off x="6845400" y="1889280"/>
            <a:ext cx="1854000" cy="866520"/>
            <a:chOff x="6845400" y="1889280"/>
            <a:chExt cx="1854000" cy="866520"/>
          </a:xfrm>
        </p:grpSpPr>
        <p:pic>
          <p:nvPicPr>
            <p:cNvPr id="154" name="AutoShape 9" descr=""/>
            <p:cNvPicPr/>
            <p:nvPr/>
          </p:nvPicPr>
          <p:blipFill>
            <a:blip r:embed="rId3"/>
            <a:stretch/>
          </p:blipFill>
          <p:spPr>
            <a:xfrm>
              <a:off x="6845400" y="1889280"/>
              <a:ext cx="185400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99400" y="1944720"/>
              <a:ext cx="17460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Учет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нематериальных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активов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56" name="AutoShape 10"/>
          <p:cNvGrpSpPr/>
          <p:nvPr/>
        </p:nvGrpSpPr>
        <p:grpSpPr>
          <a:xfrm>
            <a:off x="6997680" y="3645000"/>
            <a:ext cx="1854360" cy="866520"/>
            <a:chOff x="6997680" y="3645000"/>
            <a:chExt cx="1854360" cy="866520"/>
          </a:xfrm>
        </p:grpSpPr>
        <p:pic>
          <p:nvPicPr>
            <p:cNvPr id="157" name="AutoShape 10" descr=""/>
            <p:cNvPicPr/>
            <p:nvPr/>
          </p:nvPicPr>
          <p:blipFill>
            <a:blip r:embed="rId4"/>
            <a:stretch/>
          </p:blipFill>
          <p:spPr>
            <a:xfrm>
              <a:off x="6997680" y="3645000"/>
              <a:ext cx="185436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051680" y="3699000"/>
              <a:ext cx="1746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Учет материалов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и товаров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59" name="AutoShape 11"/>
          <p:cNvGrpSpPr/>
          <p:nvPr/>
        </p:nvGrpSpPr>
        <p:grpSpPr>
          <a:xfrm>
            <a:off x="6845400" y="5248440"/>
            <a:ext cx="1854000" cy="860400"/>
            <a:chOff x="6845400" y="5248440"/>
            <a:chExt cx="1854000" cy="860400"/>
          </a:xfrm>
        </p:grpSpPr>
        <p:pic>
          <p:nvPicPr>
            <p:cNvPr id="160" name="AutoShape 11" descr=""/>
            <p:cNvPicPr/>
            <p:nvPr/>
          </p:nvPicPr>
          <p:blipFill>
            <a:blip r:embed="rId5"/>
            <a:stretch/>
          </p:blipFill>
          <p:spPr>
            <a:xfrm>
              <a:off x="6845400" y="5248440"/>
              <a:ext cx="1854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99400" y="5299200"/>
              <a:ext cx="17460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Учет  реализации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газа,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работ, услуг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62" name="AutoShape 12"/>
          <p:cNvGrpSpPr/>
          <p:nvPr/>
        </p:nvGrpSpPr>
        <p:grpSpPr>
          <a:xfrm>
            <a:off x="4711680" y="5248440"/>
            <a:ext cx="1854360" cy="860400"/>
            <a:chOff x="4711680" y="5248440"/>
            <a:chExt cx="1854360" cy="860400"/>
          </a:xfrm>
        </p:grpSpPr>
        <p:pic>
          <p:nvPicPr>
            <p:cNvPr id="163" name="AutoShape 12" descr=""/>
            <p:cNvPicPr/>
            <p:nvPr/>
          </p:nvPicPr>
          <p:blipFill>
            <a:blip r:embed="rId6"/>
            <a:stretch/>
          </p:blipFill>
          <p:spPr>
            <a:xfrm>
              <a:off x="4711680" y="5248440"/>
              <a:ext cx="1854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65680" y="5299200"/>
              <a:ext cx="1746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Учет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заработной платы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и кадровый учет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65" name="AutoShape 13"/>
          <p:cNvGrpSpPr/>
          <p:nvPr/>
        </p:nvGrpSpPr>
        <p:grpSpPr>
          <a:xfrm>
            <a:off x="2577960" y="5248440"/>
            <a:ext cx="1854360" cy="860400"/>
            <a:chOff x="2577960" y="5248440"/>
            <a:chExt cx="1854360" cy="860400"/>
          </a:xfrm>
        </p:grpSpPr>
        <p:pic>
          <p:nvPicPr>
            <p:cNvPr id="166" name="AutoShape 13" descr=""/>
            <p:cNvPicPr/>
            <p:nvPr/>
          </p:nvPicPr>
          <p:blipFill>
            <a:blip r:embed="rId7"/>
            <a:stretch/>
          </p:blipFill>
          <p:spPr>
            <a:xfrm>
              <a:off x="2577960" y="5248440"/>
              <a:ext cx="1854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631960" y="5299200"/>
              <a:ext cx="1746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Учет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ценных бумаг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68" name="AutoShape 14"/>
          <p:cNvGrpSpPr/>
          <p:nvPr/>
        </p:nvGrpSpPr>
        <p:grpSpPr>
          <a:xfrm>
            <a:off x="444600" y="5248440"/>
            <a:ext cx="1854000" cy="860400"/>
            <a:chOff x="444600" y="5248440"/>
            <a:chExt cx="1854000" cy="860400"/>
          </a:xfrm>
        </p:grpSpPr>
        <p:pic>
          <p:nvPicPr>
            <p:cNvPr id="169" name="AutoShape 14" descr=""/>
            <p:cNvPicPr/>
            <p:nvPr/>
          </p:nvPicPr>
          <p:blipFill>
            <a:blip r:embed="rId8"/>
            <a:stretch/>
          </p:blipFill>
          <p:spPr>
            <a:xfrm>
              <a:off x="444600" y="5248440"/>
              <a:ext cx="1854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96800" y="5299200"/>
              <a:ext cx="1746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Учет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взаиморасчетов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с бюджетом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71" name="AutoShape 15"/>
          <p:cNvGrpSpPr/>
          <p:nvPr/>
        </p:nvGrpSpPr>
        <p:grpSpPr>
          <a:xfrm>
            <a:off x="291960" y="3645000"/>
            <a:ext cx="1854360" cy="866520"/>
            <a:chOff x="291960" y="3645000"/>
            <a:chExt cx="1854360" cy="866520"/>
          </a:xfrm>
        </p:grpSpPr>
        <p:pic>
          <p:nvPicPr>
            <p:cNvPr id="172" name="AutoShape 15" descr=""/>
            <p:cNvPicPr/>
            <p:nvPr/>
          </p:nvPicPr>
          <p:blipFill>
            <a:blip r:embed="rId9"/>
            <a:stretch/>
          </p:blipFill>
          <p:spPr>
            <a:xfrm>
              <a:off x="291960" y="3645000"/>
              <a:ext cx="185436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45960" y="3699000"/>
              <a:ext cx="1746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Учет затрат на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производство и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64c"/>
                  </a:solidFill>
                  <a:latin typeface="Times New Roman"/>
                </a:rPr>
                <a:t>строительство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74" name="AutoShape 23"/>
          <p:cNvSpPr/>
          <p:nvPr/>
        </p:nvSpPr>
        <p:spPr>
          <a:xfrm rot="5400000">
            <a:off x="2286000" y="365760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gradFill rotWithShape="0">
            <a:gsLst>
              <a:gs pos="0">
                <a:srgbClr val="ffff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AutoShape 24"/>
          <p:cNvSpPr/>
          <p:nvPr/>
        </p:nvSpPr>
        <p:spPr>
          <a:xfrm rot="16200000">
            <a:off x="6438600" y="36954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gradFill rotWithShape="0">
            <a:gsLst>
              <a:gs pos="0">
                <a:srgbClr val="99ccff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Налоговый уче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С:Бухгалтерии автоматизировано ведение</a:t>
            </a:r>
            <a:r>
              <a:rPr b="0" lang="ru-RU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логового учета для расчета налога на прибыль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 в соответствии с главой 25 НК РФ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 Возможны 2 способа ведения н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логов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ого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учет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дновременно с бухгалтерским учетом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 основании бухгалтерских проводок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 обоих вариантах занесение данных производится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дин раз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, т.е. это не приводит к дублированию вводимой информации </a:t>
            </a:r>
            <a:r>
              <a:rPr b="0" lang="ru-RU" sz="2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На основании полученных данных производится формирование регистров налогового учета и декларация по налогу на прибыль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Имеются средства контроля отклонений между данными бухгалтерского и налогового учета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ибкие 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можности учет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многоуровневый план счетов позволяет организовать гибкий учет по субсчетам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многомерный и многоуровневый учет позволяет вести учет одновременно по 5 аналитикам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количественный учет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многовалютный учет по неограниченному числу валют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настройка «иерархичности» справочнико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5:57:25Z</dcterms:created>
  <dc:creator>Auditor2</dc:creator>
  <dc:description/>
  <dc:language>en-US</dc:language>
  <cp:lastModifiedBy>kazantsev_ka</cp:lastModifiedBy>
  <dcterms:modified xsi:type="dcterms:W3CDTF">2008-08-06T10:36:39Z</dcterms:modified>
  <cp:revision>47</cp:revision>
  <dc:subject/>
  <dc:title>Автоматизация бухгалтерского учета</dc:title>
</cp:coreProperties>
</file>